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EBBF-42D5-499E-9C4C-FB8E5397E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57B5-6BB4-4B89-987D-A016B5257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96AE-6F4B-4522-A365-B5ED8E7C3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6D13-0E29-4AAB-81A7-2C1326A2A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27E4-81A5-48BE-A1F0-7F0037CAF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5523-943C-40B0-910C-C6CD59BE7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B1BF-063E-4603-8E02-6288E985E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B881-B52D-4BBC-99F7-18253E0B8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1728-1BA1-4614-AFD1-ABB82DCBC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0297-5709-48DB-87A4-570506F31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804B-DCA2-4633-8DCA-FB6D99618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F1BB-CEA3-47B8-86B1-FF817900F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 Build Tool : 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5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A75EED0E-ECBD-4E9D-BA48-C845513B9E7D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936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uildmeister.com/articles/maven-overview.php" TargetMode="External"/><Relationship Id="rId2" Type="http://schemas.openxmlformats.org/officeDocument/2006/relationships/hyperlink" Target="http://www.buildmeister.com/articles/maven-overview.php" TargetMode="External"/><Relationship Id="rId3" Type="http://schemas.openxmlformats.org/officeDocument/2006/relationships/hyperlink" Target="http://www.buildmeister.com/articles/maven-overview.php" TargetMode="External"/><Relationship Id="rId4" Type="http://schemas.openxmlformats.org/officeDocument/2006/relationships/hyperlink" Target="http://www.buildmeister.com/articles/maven-overview.php" TargetMode="External"/><Relationship Id="rId5" Type="http://schemas.openxmlformats.org/officeDocument/2006/relationships/hyperlink" Target="http://www.buildmeister.com/articles/maven-overview.php" TargetMode="External"/><Relationship Id="rId6" Type="http://schemas.openxmlformats.org/officeDocument/2006/relationships/hyperlink" Target="http://www.buildmeister.com/articles/maven-overview.php" TargetMode="External"/><Relationship Id="rId7" Type="http://schemas.openxmlformats.org/officeDocument/2006/relationships/hyperlink" Target="http://www.buildmeister.com/articles/maven-overview.php" TargetMode="External"/><Relationship Id="rId8" Type="http://schemas.openxmlformats.org/officeDocument/2006/relationships/hyperlink" Target="http://www.buildmeister.com/articles/maven-overview.php" TargetMode="External"/><Relationship Id="rId9" Type="http://schemas.openxmlformats.org/officeDocument/2006/relationships/hyperlink" Target="http://www.buildmeister.com/articles/maven-overview.php" TargetMode="External"/><Relationship Id="rId10" Type="http://schemas.openxmlformats.org/officeDocument/2006/relationships/hyperlink" Target="http://www.buildmeister.com/articles/maven-overview.php" TargetMode="External"/><Relationship Id="rId11" Type="http://schemas.openxmlformats.org/officeDocument/2006/relationships/hyperlink" Target="http://maven.apache.org/" TargetMode="External"/><Relationship Id="rId12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3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4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5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6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7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8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19" Type="http://schemas.openxmlformats.org/officeDocument/2006/relationships/hyperlink" Target="http://webmail.numericable.fr/util/go.php?url=http%3A%2F%2Fwww.theserverside.com%2Farticles%2Farticle.tss%3Fl%3DMavenMagic&amp;WebmailNC=f1ccaa8d916500041d023582a4d811c7" TargetMode="External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Build Tool : M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2"/>
                </a:solidFill>
                <a:latin typeface="Comic Sans MS"/>
              </a:rPr>
              <a:t>Metamodels represe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2"/>
                </a:solidFill>
                <a:latin typeface="Comic Sans MS"/>
              </a:rPr>
              <a:t>the files project.xml and maven.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Pauline Bru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3E7B-76A3-419F-B36B-B132520639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third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Most important par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Specification of the list of third party libraries that this project is dependent upon, in the case version 1.2.8 of </a:t>
            </a:r>
            <a:r>
              <a:rPr b="1" lang="fr-FR" sz="2500" spc="-1" strike="noStrike">
                <a:solidFill>
                  <a:srgbClr val="000066"/>
                </a:solidFill>
                <a:latin typeface="Comic Sans MS"/>
              </a:rPr>
              <a:t>log4j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. This information is used to download the specific version of this library from the central repository for building agains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-335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Specification of the set of Java source and test classes that are to be compiled as part of the build proces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35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442C-DD1A-45AA-8550-D04858A7EA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fourth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ports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changelog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developer-activity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file-activity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javadoc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checkstyle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report&gt;maven-changes-plugin&lt;/report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eports&gt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ct&gt;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B897-6A08-4C01-AE25-E2AD48DE58E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fourth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Specification that list of reports that are to be automatically generated and included on the project's websit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is is one of the more powerful features of Maven and allows you to take a view of all the project changes, their completeness and validity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4B6A-C39B-4E8A-96BD-4D52C9EF0F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A genera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Property and Task are identicals to those used in the build tool Ant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2" name="mavenGeneral" descr=""/>
          <p:cNvPicPr/>
          <p:nvPr/>
        </p:nvPicPr>
        <p:blipFill>
          <a:blip r:embed="rId1"/>
          <a:stretch/>
        </p:blipFill>
        <p:spPr>
          <a:xfrm>
            <a:off x="390600" y="1266840"/>
            <a:ext cx="4572000" cy="31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716A-B7F0-4071-BBA7-7A48F95E26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Goal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4" name="mavenGoal" descr=""/>
          <p:cNvPicPr/>
          <p:nvPr/>
        </p:nvPicPr>
        <p:blipFill>
          <a:blip r:embed="rId1"/>
          <a:stretch/>
        </p:blipFill>
        <p:spPr>
          <a:xfrm>
            <a:off x="569880" y="1719360"/>
            <a:ext cx="8002800" cy="34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8011-5773-4D7E-8C4A-DAD4279E4A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A few jelly command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76160" y="1219320"/>
            <a:ext cx="5591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JellySet: to give a value to a variable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j:set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var="goals"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value="compile,test" /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JellyForEach :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j:forEach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tems="${goals}"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var="goal"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indexVar="goalNumber"&gt;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&lt;attainGoal name="${goal}" /&gt;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lt;/j:forEach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77" name="mavenJellyCommand" descr=""/>
          <p:cNvPicPr/>
          <p:nvPr/>
        </p:nvPicPr>
        <p:blipFill>
          <a:blip r:embed="rId1"/>
          <a:stretch/>
        </p:blipFill>
        <p:spPr>
          <a:xfrm>
            <a:off x="681120" y="1638360"/>
            <a:ext cx="25239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5390-FD9C-4C41-A675-FE82EBB1AB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Properti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few ways to set Propertie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upplying both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nam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valu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upplying both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nam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location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etting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fil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with the filename of the property file to loa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etting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environment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with a prefix to us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0" name="property2" descr=""/>
          <p:cNvPicPr/>
          <p:nvPr/>
        </p:nvPicPr>
        <p:blipFill>
          <a:blip r:embed="rId1"/>
          <a:stretch/>
        </p:blipFill>
        <p:spPr>
          <a:xfrm>
            <a:off x="257040" y="1814400"/>
            <a:ext cx="4800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CA9D-86AB-48A5-86C8-B98DD3348F2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Tas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34000" y="1219320"/>
            <a:ext cx="433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wo types of task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edefined tasks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(described below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ask defined by the user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its definition is represented by the class ‘ TaskDef ’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its attributes are represented by a class ‘ Attribute ’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here are several categories of predefined task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Fil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mpil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chiv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Execution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operty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3" name="Task" descr=""/>
          <p:cNvPicPr/>
          <p:nvPr/>
        </p:nvPicPr>
        <p:blipFill>
          <a:blip r:embed="rId1"/>
          <a:stretch/>
        </p:blipFill>
        <p:spPr>
          <a:xfrm>
            <a:off x="419040" y="160488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B534-38E2-4E79-8CDF-F0E426D89DC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A few predefined Tasks : File Tas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Copy :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pies a file or Fileset to a new file or directory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kdir 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reates a directory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6" name="FileTasks" descr=""/>
          <p:cNvPicPr/>
          <p:nvPr/>
        </p:nvPicPr>
        <p:blipFill>
          <a:blip r:embed="rId1"/>
          <a:stretch/>
        </p:blipFill>
        <p:spPr>
          <a:xfrm>
            <a:off x="595440" y="1233360"/>
            <a:ext cx="4086000" cy="39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F6DB-61B7-4070-BD8D-D5F882C46EE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few predefined Tasks: Compile Tasks 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Javac 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mpiles the specified source file(s) within the running (Ant) VM, or in another VM if the </a:t>
            </a:r>
            <a:r>
              <a:rPr b="0" lang="fr-FR" sz="1800" spc="-1" strike="noStrike">
                <a:solidFill>
                  <a:srgbClr val="000066"/>
                </a:solidFill>
                <a:latin typeface="Arial Unicode MS"/>
              </a:rPr>
              <a:t>fork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is specifi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89" name="CompileTask" descr=""/>
          <p:cNvPicPr/>
          <p:nvPr/>
        </p:nvPicPr>
        <p:blipFill>
          <a:blip r:embed="rId1"/>
          <a:stretch/>
        </p:blipFill>
        <p:spPr>
          <a:xfrm>
            <a:off x="309600" y="1233360"/>
            <a:ext cx="4086360" cy="40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FBD7-6BAA-410C-B505-2E9A14AE20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fini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aven is a software project management and comprehension tool. Based on the concept of a project object model (POM), Maven can manage a project's build, reporting and documentation from a central piece of information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aven is an extension of the build tool 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he configuration files are XML-based. These files are called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project.xml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maven.xml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aven need others files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project.properties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build.properties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7AC4-BBA1-4C05-BD61-2E0BA44DF6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Some tasks (like copy) need a patter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92" name="Pattern" descr=""/>
          <p:cNvPicPr/>
          <p:nvPr/>
        </p:nvPicPr>
        <p:blipFill>
          <a:blip r:embed="rId1"/>
          <a:stretch/>
        </p:blipFill>
        <p:spPr>
          <a:xfrm>
            <a:off x="922320" y="1695600"/>
            <a:ext cx="733572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B19C-D9B9-4165-AF53-A80C1065F3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maven.xml: simple example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320" y="895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project default="foobar-dist" xmlns:m="jelly:maven" xmlns:ant="jelly:ant"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goal name="foobar-dist"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attainGoal name="ejb:install" 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/goal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preGoal name="ejb:init"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attainGoal name="xdoclet:ejbdoclet"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/preGoal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postGoal name="ejb:install"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ant:property name="maven.ejb.install.dir" value="${maven.repo.local}/${pom.artifactDirectory}/ejbs"/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ant:mkdir dir="${maven.ejb.install.dir}"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ant:copy file="${maven.build.dir}/${maven.final.name}.jar" tofile="${maven.ejb.install.dir}/../ jars/${maven.final.name}.jar"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/postGoal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Tahoma"/>
              </a:rPr>
              <a:t>&lt;/project&gt;</a:t>
            </a:r>
            <a:r>
              <a:rPr b="1" i="1" lang="fr-FR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DFE2-2004-4F22-A878-2BF94AB95C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our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4800" y="1361880"/>
            <a:ext cx="83725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buildmeister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com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/articles/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maven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-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overview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php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  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maven.apache.org</a:t>
            </a:r>
            <a:br>
              <a:rPr sz="2500"/>
            </a:b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e2787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theserverside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m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articles/article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tss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?l=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MavenMagic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0F5B-B5D9-452C-8140-E3DFA46D5AF8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fini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project.xml : 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  <a:ea typeface="Arial"/>
              </a:rPr>
              <a:t>Maven project descriptor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This file contains the basic project configuration for maven (project name, developers, urls, dependencies, etc).  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aven.xml : 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  <a:ea typeface="Arial"/>
              </a:rPr>
              <a:t>Maven configuration for defining build goal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  <a:ea typeface="Arial"/>
              </a:rPr>
              <a:t>This file contains the default maven goals for the project, plus added pre-post operations to be performed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  <a:ea typeface="Arial"/>
              </a:rPr>
              <a:t>project.properties: A file containing the property values for Maven and its plug-in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build.properties: 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  <a:ea typeface="Arial"/>
              </a:rPr>
              <a:t>A file defining project specific properti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6D24-5C56-4854-97A1-779A625895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A simplified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3" name="project" descr=""/>
          <p:cNvPicPr/>
          <p:nvPr/>
        </p:nvPicPr>
        <p:blipFill>
          <a:blip r:embed="rId1"/>
          <a:stretch/>
        </p:blipFill>
        <p:spPr>
          <a:xfrm>
            <a:off x="1646280" y="817560"/>
            <a:ext cx="585000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68DD-63C0-4DAE-B4FC-9AB82175F7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first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95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ct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mVersion&gt;3&lt;/pomVersion&gt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d&gt;MavenDemo&lt;/id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e&gt;Maven Demo&lt;/name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urrentVersion&gt;1.0&lt;/currentVersion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ganization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name&gt;The Buildmeister&lt;/name&gt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url&gt;http://www.buildmeister.com&lt;/url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logo&gt;http://www.buildmeister.com/images/logo.jpg&lt;/logo&gt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ganization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ceptionYear&gt;2004&lt;/inceptionYear&gt;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ackage&gt;com.buildmeister&lt;/package&gt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hortDescription&gt;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Maven Demo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hortDescription&gt;</a:t>
            </a:r>
            <a:r>
              <a:rPr b="0" lang="fr-FR" sz="1800" spc="-1" strike="noStrike">
                <a:solidFill>
                  <a:srgbClr val="80808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5050"/>
                </a:solidFill>
                <a:latin typeface="Courier New"/>
                <a:ea typeface="Courier New"/>
              </a:rPr>
              <a:t>&lt;url&gt;http://localhost/MavenDemo_ProjectWeb&lt;/url&gt; </a:t>
            </a:r>
            <a:br>
              <a:rPr sz="1800"/>
            </a:br>
            <a:r>
              <a:rPr b="0" lang="fr-FR" sz="1800" spc="-1" strike="noStrike">
                <a:solidFill>
                  <a:srgbClr val="ff5050"/>
                </a:solidFill>
                <a:latin typeface="Courier New"/>
                <a:ea typeface="Courier New"/>
              </a:rPr>
              <a:t>&lt;siteAddress&gt;http://localhost&lt;/siteAddress&gt;</a:t>
            </a:r>
            <a:br>
              <a:rPr sz="1800"/>
            </a:br>
            <a:r>
              <a:rPr b="0" lang="fr-FR" sz="1800" spc="-1" strike="noStrike">
                <a:solidFill>
                  <a:srgbClr val="ff5050"/>
                </a:solidFill>
                <a:latin typeface="Courier New"/>
                <a:ea typeface="Courier New"/>
              </a:rPr>
              <a:t>&lt;siteDirectory&gt;</a:t>
            </a:r>
            <a:br>
              <a:rPr sz="1800"/>
            </a:br>
            <a:r>
              <a:rPr b="0" lang="fr-FR" sz="1800" spc="-1" strike="noStrike">
                <a:solidFill>
                  <a:srgbClr val="ff5050"/>
                </a:solidFill>
                <a:latin typeface="Courier New"/>
                <a:ea typeface="Courier New"/>
              </a:rPr>
              <a:t>  </a:t>
            </a:r>
            <a:r>
              <a:rPr b="0" lang="fr-FR" sz="1600" spc="-1" strike="noStrike">
                <a:solidFill>
                  <a:srgbClr val="ff5050"/>
                </a:solidFill>
                <a:latin typeface="Courier New"/>
                <a:ea typeface="Courier New"/>
              </a:rPr>
              <a:t>C:\Program Files\Apache Group\Apache2\htdocs\MavenDemo_ProjectWeb</a:t>
            </a:r>
            <a:br>
              <a:rPr sz="1600"/>
            </a:br>
            <a:r>
              <a:rPr b="0" lang="fr-FR" sz="1800" spc="-1" strike="noStrike">
                <a:solidFill>
                  <a:srgbClr val="ff5050"/>
                </a:solidFill>
                <a:latin typeface="Courier New"/>
                <a:ea typeface="Courier New"/>
              </a:rPr>
              <a:t>&lt;/siteDirectory&gt;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D342-3374-4F58-B40B-04D2D33F7C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first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is part of the </a:t>
            </a:r>
            <a:r>
              <a:rPr b="0" i="1" lang="fr-FR" sz="2500" spc="-1" strike="noStrike">
                <a:solidFill>
                  <a:srgbClr val="000066"/>
                </a:solidFill>
                <a:latin typeface="Comic Sans MS"/>
                <a:ea typeface="Courier New"/>
              </a:rPr>
              <a:t>maven.xml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file defines some basic information about the project and the organization developing i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part in red define the location of the project web site; this is a location where Maven will deploy the web site that it generates containing build results and project report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38B3-964D-4BF8-800D-C56285C379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second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69480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ilingLists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ilingList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name&gt;Maven Demo User List&lt;/name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subscribe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-subscribe@mail.buildmeister.com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ubscribe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&lt;unsubscribe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-unsubscribe@mail.buildmeister.com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nsubscribe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rchive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http://archive.buildmeister.com/users@mail.buildmeister.com/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rchive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ilingList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ilingLists&gt;</a:t>
            </a: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velopers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veloper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name&gt;Kevin Lee&lt;/name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id&gt;kevin.lee&lt;/id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email&gt;kevin.lee@buildmeister.com&lt;/email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&lt;organization&gt;&lt;/organization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veloper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velopers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413A-9A91-47F0-9EFC-A954FF9FF6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second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Description of the set of mailing lists that users and developers of the project can join for updates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Description of the lists information about the members of the development team that are working on the projec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0974-0A11-48E5-96D6-9D1459F6F0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ject.xml: example -&gt; third par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pendencies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dependency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&lt;groupId&gt;log4j&lt;/groupId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&lt;artifactId&gt;log4j&lt;/artifactId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&lt;version&gt;1.2.8&lt;/version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/dependency&gt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ependencies&gt;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ild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sourceDirectory&gt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rc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ourceDirectory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 &lt;unitTestSourceDirectory&gt;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nitTestSourceDirectory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ild&gt;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0FC9-FC16-49C1-9821-0291C17B33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Peter Rosenthal</dc:creator>
  <dc:description/>
  <dc:language>en-US</dc:language>
  <cp:lastModifiedBy>Brunel Pauline</cp:lastModifiedBy>
  <dcterms:modified xsi:type="dcterms:W3CDTF">2005-07-09T19:09:48Z</dcterms:modified>
  <cp:revision>649</cp:revision>
  <dc:subject>Bases conceptuelles du MDA</dc:subject>
  <dc:title>Cours #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