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7286-0A3E-4CF9-802A-1601CD039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EB08-829F-4FBD-94DB-B6E1C3D8E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2261-4F84-4865-8F7D-CD687608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0633-202C-48A2-8B60-8259DD32B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7D44-A108-4D48-96D7-A368798C2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DD2D-D0A5-4436-B1E6-1FB7CAAD0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E78A-8B59-45F1-82D5-AB7DFDAAF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F06F-9E46-42E6-9536-9695FEC1F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0099-A5F4-451E-AAA4-6D18BC08C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0D81-CE0A-4BCF-85B7-A80624DE4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FD0F-3B40-4FB0-988E-EC8628278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E09-EDA3-47F7-A49C-E34C0422B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A Build Tool :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5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C49CB38D-79FA-466B-9027-AD30DF76E21C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936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t.apache.org/manual/" TargetMode="External"/><Relationship Id="rId2" Type="http://schemas.openxmlformats.org/officeDocument/2006/relationships/hyperlink" Target="http://ant.apache.org/manual/" TargetMode="External"/><Relationship Id="rId3" Type="http://schemas.openxmlformats.org/officeDocument/2006/relationships/hyperlink" Target="http://ant.apache.org/manual/" TargetMode="External"/><Relationship Id="rId4" Type="http://schemas.openxmlformats.org/officeDocument/2006/relationships/hyperlink" Target="http://ant.apache.org/manual/" TargetMode="External"/><Relationship Id="rId5" Type="http://schemas.openxmlformats.org/officeDocument/2006/relationships/hyperlink" Target="http://ant.apache.org/manual/" TargetMode="External"/><Relationship Id="rId6" Type="http://schemas.openxmlformats.org/officeDocument/2006/relationships/hyperlink" Target="http://ant.apache.org/manual/" TargetMode="External"/><Relationship Id="rId7" Type="http://schemas.openxmlformats.org/officeDocument/2006/relationships/hyperlink" Target="http://ant.apache.org/manual/" TargetMode="External"/><Relationship Id="rId8" Type="http://schemas.openxmlformats.org/officeDocument/2006/relationships/hyperlink" Target="http://en.wikipedia.org/wiki/Apache_Ant" TargetMode="External"/><Relationship Id="rId9" Type="http://schemas.openxmlformats.org/officeDocument/2006/relationships/hyperlink" Target="http://en.wikipedia.org/wiki/Apache_Ant" TargetMode="External"/><Relationship Id="rId10" Type="http://schemas.openxmlformats.org/officeDocument/2006/relationships/hyperlink" Target="http://en.wikipedia.org/wiki/Apache_Ant" TargetMode="External"/><Relationship Id="rId11" Type="http://schemas.openxmlformats.org/officeDocument/2006/relationships/hyperlink" Target="http://en.wikipedia.org/wiki/Apache_Ant" TargetMode="External"/><Relationship Id="rId12" Type="http://schemas.openxmlformats.org/officeDocument/2006/relationships/hyperlink" Target="http://en.wikipedia.org/wiki/Apache_Ant" TargetMode="External"/><Relationship Id="rId13" Type="http://schemas.openxmlformats.org/officeDocument/2006/relationships/hyperlink" Target="http://en.wikipedia.org/wiki/Apache_Ant" TargetMode="External"/><Relationship Id="rId14" Type="http://schemas.openxmlformats.org/officeDocument/2006/relationships/hyperlink" Target="http://en.wikipedia.org/wiki/Apache_Ant" TargetMode="External"/><Relationship Id="rId15" Type="http://schemas.openxmlformats.org/officeDocument/2006/relationships/hyperlink" Target="http://en.wikipedia.org/wiki/Apache_Ant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A Build Tool : 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2"/>
                </a:solidFill>
                <a:latin typeface="Comic Sans MS"/>
              </a:rPr>
              <a:t>Presentation of a Meta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Pauline Bru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CE12-051E-4315-873D-2C08E5AEC7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imple Example : build.xml(2/3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arget 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prepar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pends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init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scription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Create build directories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mkdir 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build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mkdir 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build}/WEB-INF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/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target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arget 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install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scription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Install Web application"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pends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build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nstall url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url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user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username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assword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password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path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path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wa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file:${build}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target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9AE2-F423-44D7-8195-5F458F9F2B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imple Example : build.xml(3/3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arget 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build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pends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prepar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scription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Compile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      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app Java files and copy HTML and JSP page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javac src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src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dest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build}/WEB-INF/classes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nclude 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**/*.java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/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path refid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classpath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javac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opy to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${build}/WEB-INF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fileset dir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web/WEB-INF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nclude name=</a:t>
            </a:r>
            <a:r>
              <a:rPr b="0" lang="fr-FR" sz="1600" spc="-1" strike="noStrike">
                <a:solidFill>
                  <a:srgbClr val="0014c8"/>
                </a:solidFill>
                <a:latin typeface="Courier New"/>
              </a:rPr>
              <a:t>"web.xml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fileset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copy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target&gt;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/project&gt; 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EA48-A83B-4BE8-9045-9B17C2B35FC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ourc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ant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.apache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org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/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6"/>
              </a:rPr>
              <a:t>manual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7"/>
              </a:rPr>
              <a:t>/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8"/>
              </a:rPr>
              <a:t>http://en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9"/>
              </a:rPr>
              <a:t>wikipedia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0"/>
              </a:rPr>
              <a:t>.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1"/>
              </a:rPr>
              <a:t>org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2"/>
              </a:rPr>
              <a:t>/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3"/>
              </a:rPr>
              <a:t>wiki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4"/>
              </a:rPr>
              <a:t>/Apache_</a:t>
            </a:r>
            <a:r>
              <a:rPr b="0" lang="fr-FR" sz="2500" spc="-1" strike="noStrike" u="sng">
                <a:solidFill>
                  <a:srgbClr val="ccccff"/>
                </a:solidFill>
                <a:uFillTx/>
                <a:latin typeface="Comic Sans MS"/>
                <a:hlinkClick r:id="rId15"/>
              </a:rPr>
              <a:t>An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09DF-DA2A-4F0A-9965-76211349459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fini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Apache Ant is a project of the Apache Software Foundation. It started as a subproject of the Apache Jakarta Project (last version Ant 1.6.5 in June 2005)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Ant is a java-based build too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It will behave (nearly) identically on all platfor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The configuration files are XML-based. By default, the file is called build.xml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266ED-ED13-4CFF-9305-4B36C4F317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general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project can have a set of propertie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project defines one or more target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target is a set of tasks which must be executed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39480" indent="-3394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Taskdef allows to add a task definition to the current project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2" name="antgeneral" descr=""/>
          <p:cNvPicPr/>
          <p:nvPr/>
        </p:nvPicPr>
        <p:blipFill>
          <a:blip r:embed="rId1"/>
          <a:stretch/>
        </p:blipFill>
        <p:spPr>
          <a:xfrm>
            <a:off x="423720" y="1285920"/>
            <a:ext cx="408636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5162-5231-4EE0-8D84-2743081992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ropertie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419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A few ways to set Propertie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upplying both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nam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valu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upplying both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nam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location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etting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file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with the filename of the property file to loa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By setting the </a:t>
            </a:r>
            <a:r>
              <a:rPr b="0" i="1" lang="fr-FR" sz="1800" spc="-1" strike="noStrike">
                <a:solidFill>
                  <a:srgbClr val="000066"/>
                </a:solidFill>
                <a:latin typeface="Comic Sans MS"/>
              </a:rPr>
              <a:t>environment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with a prefix to use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5" name="property2" descr=""/>
          <p:cNvPicPr/>
          <p:nvPr/>
        </p:nvPicPr>
        <p:blipFill>
          <a:blip r:embed="rId1"/>
          <a:stretch/>
        </p:blipFill>
        <p:spPr>
          <a:xfrm>
            <a:off x="257040" y="1814400"/>
            <a:ext cx="4800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072B-14DF-456F-813A-9293793A3E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Task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34000" y="1219320"/>
            <a:ext cx="4333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wo types of task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edefined tasks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(described below)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task defined by the user: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its definition is represented by the class ‘ TaskDef ’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lvl="2" marL="1085760" indent="-217080">
              <a:spcBef>
                <a:spcPts val="400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Comic Sans MS"/>
              </a:rPr>
              <a:t>its attributes are represented by a class ‘ Attribute ’</a:t>
            </a:r>
            <a:endParaRPr b="0" lang="en-US" sz="1600" spc="-1" strike="noStrike">
              <a:solidFill>
                <a:srgbClr val="000066"/>
              </a:solidFill>
              <a:latin typeface="Comic Sans MS"/>
            </a:endParaRPr>
          </a:p>
          <a:p>
            <a:pPr marL="325800" indent="-325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There are several categories of predefined tasks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Fil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mpil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Archive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Execution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51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Property Tasks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58" name="Task" descr=""/>
          <p:cNvPicPr/>
          <p:nvPr/>
        </p:nvPicPr>
        <p:blipFill>
          <a:blip r:embed="rId1"/>
          <a:stretch/>
        </p:blipFill>
        <p:spPr>
          <a:xfrm>
            <a:off x="419040" y="160488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1A33-3F56-44CB-8E38-D4FE60648A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few predefined Tasks : File Tasks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Copy : 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pies a file or Fileset to a new file or directory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Mkdir 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reates a directory.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61" name="FileTasks" descr=""/>
          <p:cNvPicPr/>
          <p:nvPr/>
        </p:nvPicPr>
        <p:blipFill>
          <a:blip r:embed="rId1"/>
          <a:stretch/>
        </p:blipFill>
        <p:spPr>
          <a:xfrm>
            <a:off x="595440" y="1233360"/>
            <a:ext cx="4086000" cy="39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7514-E9AE-4A36-96CA-082361B7B2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few predefined Tasks : Compile Tasks 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14720" y="1219320"/>
            <a:ext cx="415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Javac :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Compiles the specified source file(s) within the running (Ant) VM, or in another VM if the </a:t>
            </a:r>
            <a:r>
              <a:rPr b="0" lang="fr-FR" sz="1800" spc="-1" strike="noStrike">
                <a:solidFill>
                  <a:srgbClr val="000066"/>
                </a:solidFill>
                <a:latin typeface="Arial Unicode MS"/>
              </a:rPr>
              <a:t>fork</a:t>
            </a:r>
            <a:r>
              <a:rPr b="0" lang="fr-FR" sz="1800" spc="-1" strike="noStrike">
                <a:solidFill>
                  <a:srgbClr val="000066"/>
                </a:solidFill>
                <a:latin typeface="Comic Sans MS"/>
              </a:rPr>
              <a:t> attribute is specified.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66"/>
                </a:solidFill>
                <a:latin typeface="Comic Sans MS"/>
              </a:rPr>
              <a:t>…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64" name="CompileTask" descr=""/>
          <p:cNvPicPr/>
          <p:nvPr/>
        </p:nvPicPr>
        <p:blipFill>
          <a:blip r:embed="rId1"/>
          <a:stretch/>
        </p:blipFill>
        <p:spPr>
          <a:xfrm>
            <a:off x="309600" y="1233360"/>
            <a:ext cx="4086360" cy="40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C2D5-F448-4B87-9EB1-23BE08B353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patter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Comic Sans MS"/>
              </a:rPr>
              <a:t>Some tasks (like copy) need a pattern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67" name="Pattern" descr=""/>
          <p:cNvPicPr/>
          <p:nvPr/>
        </p:nvPicPr>
        <p:blipFill>
          <a:blip r:embed="rId1"/>
          <a:stretch/>
        </p:blipFill>
        <p:spPr>
          <a:xfrm>
            <a:off x="922320" y="1695600"/>
            <a:ext cx="733572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57BE-BF59-4307-AFE3-A8F4F2D930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Simple Example : build.xml(1/3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oject 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gs-example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default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build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basedir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.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arget 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init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stamp/&gt;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target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operty 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example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valu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GSApp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/&gt; 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operty 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path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valu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/${example}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operty fil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build.properties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operty fil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${user.home}/build.properties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80a0a"/>
                </a:solidFill>
                <a:latin typeface="Courier New"/>
              </a:rPr>
              <a:t>&l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askdef 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install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classname=</a:t>
            </a:r>
            <a:r>
              <a:rPr b="0" lang="fr-FR" sz="1800" spc="-1" strike="noStrike">
                <a:solidFill>
                  <a:srgbClr val="0014c8"/>
                </a:solidFill>
                <a:latin typeface="Courier New"/>
              </a:rPr>
              <a:t>"org.apache.catalina.ant.InstallTask"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8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DF76-6CEB-400A-BE2E-99A1742D72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Peter Rosenthal</dc:creator>
  <dc:description/>
  <dc:language>en-US</dc:language>
  <cp:lastModifiedBy>brunel</cp:lastModifiedBy>
  <dcterms:modified xsi:type="dcterms:W3CDTF">2005-07-11T13:08:17Z</dcterms:modified>
  <cp:revision>635</cp:revision>
  <dc:subject>Bases conceptuelles du MDA</dc:subject>
  <dc:title>Cours #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