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5173F-6A71-46CA-A55C-32D444D381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120" y="3806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43BF2-3E70-4B0A-8887-500221C63F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4316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6C2A9-3F5A-4004-846B-88E672C103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6896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916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12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6896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916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C37AB-A45B-431D-8930-6844E9DAD7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4F895-52DE-447B-A2D1-FDA9134B16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7AD5B-4297-4FD7-94FE-0DB0533E9D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44D53-7244-40E7-8C98-388DA1A881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24723-4418-4067-A2E8-6906B0F062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" y="152280"/>
            <a:ext cx="8458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76FD8-DA1A-4E9B-9ECE-9CB7186076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ECF84-FBFE-4DEB-8061-1EB2D362AB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4316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F8309-905A-48C3-BC92-F633BB0D9C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2F30C-084A-42FF-A486-BA1786321E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univ-nantes.fr/index.jsp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85120"/>
            <a:ext cx="9144000" cy="274320"/>
          </a:xfrm>
          <a:prstGeom prst="rect">
            <a:avLst/>
          </a:prstGeom>
          <a:solidFill>
            <a:srgbClr val="c7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3" marL="16002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4" marL="20574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249120"/>
            <a:ext cx="89917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0"/>
            <a:ext cx="9144000" cy="276480"/>
          </a:xfrm>
          <a:prstGeom prst="rect">
            <a:avLst/>
          </a:prstGeom>
          <a:solidFill>
            <a:srgbClr val="c7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mic Sans MS"/>
              </a:rPr>
              <a:t>A Build Tool : M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50000" y="6624720"/>
            <a:ext cx="149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66"/>
                </a:solidFill>
                <a:latin typeface="Arial"/>
              </a:rPr>
              <a:t>© 2005 ATLAS N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6192360" y="660060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Verdana"/>
              </a:rPr>
              <a:t>- </a:t>
            </a:r>
            <a:fld id="{9968649A-9303-4505-82C3-1CF63BF9B91C}" type="slidenum">
              <a:rPr b="1" lang="en-US" sz="9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66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42920" cy="258840"/>
          </a:xfrm>
          <a:prstGeom prst="rect">
            <a:avLst/>
          </a:prstGeom>
          <a:ln w="0">
            <a:noFill/>
          </a:ln>
        </p:spPr>
      </p:pic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" descr="Université de Nante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-9360" y="6191280"/>
            <a:ext cx="122868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143000"/>
            <a:ext cx="83818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99ff"/>
                </a:solidFill>
                <a:latin typeface="Comic Sans MS"/>
              </a:rPr>
              <a:t>A Build Tool : Ma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42"/>
                </a:solidFill>
                <a:latin typeface="Comic Sans MS"/>
              </a:rPr>
              <a:t>Presentation of a Meta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42"/>
                </a:solidFill>
                <a:latin typeface="Comic Sans MS"/>
              </a:rPr>
              <a:t>Pauline Bru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42"/>
                </a:solidFill>
                <a:latin typeface="Comic Sans MS"/>
              </a:rPr>
              <a:t>ATLAS group (INRIA &amp; LINA), University of Nantes, F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ttp://www.sciences.univ-nantes.fr/lina/atl/</a:t>
            </a:r>
            <a:br>
              <a:rPr sz="44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A174D-5544-4137-844B-7CAB6DFC44D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Definition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66"/>
                </a:solidFill>
                <a:latin typeface="Comic Sans MS"/>
              </a:rPr>
              <a:t>Make</a:t>
            </a:r>
            <a:r>
              <a:rPr b="0" lang="fr-FR" sz="2500" spc="-1" strike="noStrike">
                <a:solidFill>
                  <a:srgbClr val="000066"/>
                </a:solidFill>
                <a:latin typeface="Comic Sans MS"/>
              </a:rPr>
              <a:t> is a computer program that automates the compilation of programs whose files are dependent on each other. 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Comic Sans MS"/>
              </a:rPr>
              <a:t>Make will only recompile the files that need to be updated (files that have been modified since the last compile, or that depend on modified files). 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Comic Sans MS"/>
              </a:rPr>
              <a:t>A makefile has its own presentation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73D50-AE3E-4E06-85CD-112F9E69044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A general Metamodel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14720" y="1219320"/>
            <a:ext cx="415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66"/>
                </a:solidFill>
                <a:latin typeface="Comic Sans MS"/>
              </a:rPr>
              <a:t>Each makefile defines  a list of element :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Macro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Rule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9480" indent="-3394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66"/>
                </a:solidFill>
                <a:latin typeface="Comic Sans MS"/>
              </a:rPr>
              <a:t>A Macro serves to give a value to a constant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9480" indent="-3394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66"/>
                </a:solidFill>
                <a:latin typeface="Comic Sans MS"/>
              </a:rPr>
              <a:t>A </a:t>
            </a:r>
            <a:r>
              <a:rPr b="0" i="1" lang="fr-FR" sz="2100" spc="-1" strike="noStrike">
                <a:solidFill>
                  <a:srgbClr val="000066"/>
                </a:solidFill>
                <a:latin typeface="Comic Sans MS"/>
              </a:rPr>
              <a:t>rule</a:t>
            </a:r>
            <a:r>
              <a:rPr b="0" lang="fr-FR" sz="2100" spc="-1" strike="noStrike">
                <a:solidFill>
                  <a:srgbClr val="000066"/>
                </a:solidFill>
                <a:latin typeface="Comic Sans MS"/>
              </a:rPr>
              <a:t> in the makefile tells Make how to execute a series of commands in order to build a </a:t>
            </a:r>
            <a:r>
              <a:rPr b="0" i="1" lang="fr-FR" sz="2100" spc="-1" strike="noStrike">
                <a:solidFill>
                  <a:srgbClr val="000066"/>
                </a:solidFill>
                <a:latin typeface="Comic Sans MS"/>
              </a:rPr>
              <a:t>target</a:t>
            </a:r>
            <a:r>
              <a:rPr b="0" lang="fr-FR" sz="2100" spc="-1" strike="noStrike">
                <a:solidFill>
                  <a:srgbClr val="000066"/>
                </a:solidFill>
                <a:latin typeface="Comic Sans MS"/>
              </a:rPr>
              <a:t> file from source files.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52" name="makegeneral" descr=""/>
          <p:cNvPicPr/>
          <p:nvPr/>
        </p:nvPicPr>
        <p:blipFill>
          <a:blip r:embed="rId1"/>
          <a:stretch/>
        </p:blipFill>
        <p:spPr>
          <a:xfrm>
            <a:off x="1062000" y="1595520"/>
            <a:ext cx="2714760" cy="20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1731C-D1BE-423D-B6B1-DF5BBB5F20A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Rule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1219320"/>
            <a:ext cx="4419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66"/>
                </a:solidFill>
                <a:latin typeface="Comic Sans MS"/>
              </a:rPr>
              <a:t>A rule specifies a list of </a:t>
            </a:r>
            <a:r>
              <a:rPr b="0" i="1" lang="fr-FR" sz="2100" spc="-1" strike="noStrike">
                <a:solidFill>
                  <a:srgbClr val="000066"/>
                </a:solidFill>
                <a:latin typeface="Comic Sans MS"/>
              </a:rPr>
              <a:t>dependencies</a:t>
            </a:r>
            <a:r>
              <a:rPr b="0" lang="fr-FR" sz="2100" spc="-1" strike="noStrike">
                <a:solidFill>
                  <a:srgbClr val="000066"/>
                </a:solidFill>
                <a:latin typeface="Comic Sans MS"/>
              </a:rPr>
              <a:t> of the target file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fr-FR" sz="2100" spc="-1" strike="noStrike">
                <a:solidFill>
                  <a:srgbClr val="000066"/>
                </a:solidFill>
                <a:latin typeface="Comic Sans MS"/>
              </a:rPr>
              <a:t>This list should include all files (whether source files or other rules) which are used as inputs to the commands in the rule.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66"/>
                </a:solidFill>
                <a:latin typeface="Comic Sans MS"/>
              </a:rPr>
              <a:t>A rule is updated (with the shell commands) after the update of its dependencies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55" name="rule" descr=""/>
          <p:cNvPicPr/>
          <p:nvPr/>
        </p:nvPicPr>
        <p:blipFill>
          <a:blip r:embed="rId1"/>
          <a:stretch/>
        </p:blipFill>
        <p:spPr>
          <a:xfrm>
            <a:off x="1038240" y="1738440"/>
            <a:ext cx="2876400" cy="22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5084A-EC04-430D-A768-3CF0C447C51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Dependency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734000" y="1219320"/>
            <a:ext cx="4333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66"/>
                </a:solidFill>
                <a:latin typeface="Comic Sans MS"/>
              </a:rPr>
              <a:t>Two types of dependency: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A source file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Another rule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66"/>
                </a:solidFill>
                <a:latin typeface="Comic Sans MS"/>
              </a:rPr>
              <a:t>When there is a rule in the dependencies, this rule is updated before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66"/>
                </a:solidFill>
                <a:latin typeface="Comic Sans MS"/>
              </a:rPr>
              <a:t>If a file or a rule is newer than the target, the rule must be rebuilt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58" name="dependency" descr=""/>
          <p:cNvPicPr/>
          <p:nvPr/>
        </p:nvPicPr>
        <p:blipFill>
          <a:blip r:embed="rId1"/>
          <a:stretch/>
        </p:blipFill>
        <p:spPr>
          <a:xfrm>
            <a:off x="1009800" y="1576440"/>
            <a:ext cx="2762280" cy="326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AB546-01BF-4EA8-8359-256969B7DC3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Simple Example : Makefile (1/2)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#Test d'un fichier makefile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CC=gcc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CFLAGS=-Wall –ansi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LDFLAGS=-Wall –ansi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all : hello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hello : hello.o main.o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$(CC) -o hello hello.o main.o $(LDFLAGS)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hello.o : hello.c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$(CC) -o hello.o -c hello.c $(CFLAGS)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48646-041A-4B1D-8FC5-5337C40B508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Simple Example : Makefile(2/2)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main.o : main.c hello.h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$(CC) -o main.o -c main.c $(CFLAGS)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clean :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rm -rf *.o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mrproper : clean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rm -rf $(EXEC)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5EF14-4F9F-4C90-BBF0-978CDDE7CF8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Source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Comic Sans MS"/>
              </a:rPr>
              <a:t>http://www.gnu.org/software/make/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575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66"/>
                </a:solidFill>
                <a:latin typeface="Comic Sans MS"/>
              </a:rPr>
              <a:t>http://www.opussoftware.com/tutorial/TutMakefile.htm</a:t>
            </a:r>
            <a:endParaRPr b="0" lang="en-US" sz="23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0C580-82BA-47EA-9895-7CFD097025C7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0T14:21:25Z</dcterms:created>
  <dc:creator>Peter Rosenthal</dc:creator>
  <dc:description/>
  <dc:language>en-US</dc:language>
  <cp:lastModifiedBy>Brunel Pauline</cp:lastModifiedBy>
  <dcterms:modified xsi:type="dcterms:W3CDTF">2005-07-12T16:37:33Z</dcterms:modified>
  <cp:revision>640</cp:revision>
  <dc:subject>Bases conceptuelles du MDA</dc:subject>
  <dc:title>Cours #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58291993</vt:r8>
  </property>
  <property fmtid="{D5CDD505-2E9C-101B-9397-08002B2CF9AE}" pid="3" name="_AuthorEmail">
    <vt:lpwstr>jean.bezivin@lina.univ-nantes.fr</vt:lpwstr>
  </property>
  <property fmtid="{D5CDD505-2E9C-101B-9397-08002B2CF9AE}" pid="4" name="_AuthorEmailDisplayName">
    <vt:lpwstr>Jean Bezivin</vt:lpwstr>
  </property>
  <property fmtid="{D5CDD505-2E9C-101B-9397-08002B2CF9AE}" pid="5" name="_EmailSubject">
    <vt:lpwstr>Cartouche.ppt.ppt</vt:lpwstr>
  </property>
  <property fmtid="{D5CDD505-2E9C-101B-9397-08002B2CF9AE}" pid="6" name="_ReviewingToolsShownOnce">
    <vt:lpwstr/>
  </property>
</Properties>
</file>