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C015B-AD7E-438E-9B1A-1894AEBCC8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4886F-10EF-46F2-96BA-148F45FF27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3C18A-5DC9-485A-BD5D-60405BEEE6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4E206-A037-4967-A7B6-CB2DE833B6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AE25C-85CA-4599-827C-28869A1F24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8C43B-3BBD-4673-88CC-5FC795A3FD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46212-894F-4C99-9E1C-51B9658DAF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5FE9D-EB1D-464A-ACDE-E8549B7E92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F3EA9-A425-4E55-8351-F88CC9C408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7708A-D7E2-4B02-A674-40B3990DBF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6F986-CD4D-4E75-8112-D5FC15F7EB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08BA2-08AF-4AE9-BCCB-7ACBAB0A88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F3A3A-F1C2-4F52-92CD-548BD8EAE9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6696C-D2A4-4D2A-8655-6281C19C13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6D065-B7FB-4AE3-85A8-682460E826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D45EF-F0FE-4509-BBC6-121245A374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3B377-C945-4A25-B68A-53BA819AF4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C8AB1-EA51-4682-BD66-3FBC46A699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C90DE-1DD6-47CC-A548-71E74B9033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B78D7-6A46-4431-9E90-8868B96D03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6C0EA-EFE1-424A-902A-B223B1F6DD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0CC5C-5FBF-4492-9181-49C511ADFA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7E888-1A76-4673-A6AD-77F21E1B62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6B298-5EAF-4569-B5D2-F62F853A73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716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28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223560"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16120" indent="-231840">
              <a:spcBef>
                <a:spcPts val="601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16120" indent="-231840">
              <a:spcBef>
                <a:spcPts val="601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16120" indent="-231840">
              <a:spcBef>
                <a:spcPts val="601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6475320"/>
            <a:ext cx="7696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Compare Framewor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|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IBM Corp., 200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ll rights reserved.  Source code in this presentation is made available under the EPL, v1.0, remainder of the presentation is licensed under Creative Commons Att. Nc Nd 2.5 license.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| 2008-11-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85760" y="184320"/>
            <a:ext cx="857160" cy="7236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264320" y="333360"/>
            <a:ext cx="37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0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clipse Demo Camp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4080" y="6462720"/>
            <a:ext cx="10065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CE2A-32D1-4F5A-AAAA-9252F868AE9B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0" y="6381360"/>
            <a:ext cx="111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835A-E995-4932-BA7C-854165EA0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280" y="6400800"/>
            <a:ext cx="909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pare Framewor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| Copyright © IBM Corp., 20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All rights reserved.  Source code in this presentation is made available under the EPL, v1.0, remainder of the presentation is licensed under Creative Commons Att. Nc Nd 2.5 license.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| 2008-11-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85760" y="184320"/>
            <a:ext cx="857160" cy="723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64320" y="333360"/>
            <a:ext cx="37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0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clipse Demo Camp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8756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48428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484280">
              <a:spcBef>
                <a:spcPts val="4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484280">
              <a:spcBef>
                <a:spcPts val="4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f2672"/>
                </a:solidFill>
                <a:latin typeface="Arial"/>
              </a:rPr>
              <a:t>OSGi Services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4196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artłomiej Węglar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rakow Software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weglarz@pl.ibm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f2672"/>
                </a:solidFill>
                <a:latin typeface="Arial"/>
              </a:rPr>
              <a:t>Declarative services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clarative services is a declarative model for publishing, finding and binding to OSGi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716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implifies the task of authoring OSGi services by performing the work of registering the service and handling service dependen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716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inimizes the amount of code a programmer has to write also allows service components to be loaded only when they are nee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716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bundles do not need to provide a BundleActiv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f2672"/>
                </a:solidFill>
                <a:latin typeface="Arial"/>
              </a:rPr>
              <a:t>Component declaration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cc33"/>
                </a:solidFill>
                <a:latin typeface="Arial"/>
              </a:rPr>
              <a:t>&lt;?x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9900cc"/>
                </a:solidFill>
                <a:latin typeface="Arial"/>
              </a:rPr>
              <a:t>version=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"1.0" </a:t>
            </a:r>
            <a:r>
              <a:rPr b="0" lang="pl-PL" sz="2000" spc="-1" strike="noStrike">
                <a:solidFill>
                  <a:srgbClr val="9900cc"/>
                </a:solidFill>
                <a:latin typeface="Arial"/>
              </a:rPr>
              <a:t>encoding=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"UTF-8"</a:t>
            </a:r>
            <a:r>
              <a:rPr b="0" lang="pl-PL" sz="2000" spc="-1" strike="noStrike">
                <a:solidFill>
                  <a:srgbClr val="33cc33"/>
                </a:solidFill>
                <a:latin typeface="Arial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cc33"/>
                </a:solidFill>
                <a:latin typeface="Arial"/>
              </a:rPr>
              <a:t>&lt;component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9900cc"/>
                </a:solidFill>
                <a:latin typeface="Arial"/>
              </a:rPr>
              <a:t>name=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pl-PL" sz="20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example.binding" </a:t>
            </a:r>
            <a:r>
              <a:rPr b="0" lang="pl-PL" sz="2000" spc="-1" strike="noStrike">
                <a:solidFill>
                  <a:srgbClr val="9900cc"/>
                </a:solidFill>
                <a:latin typeface="Arial"/>
              </a:rPr>
              <a:t>immediate=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"true"</a:t>
            </a:r>
            <a:r>
              <a:rPr b="0" lang="pl-PL" sz="2000" spc="-1" strike="noStrike">
                <a:solidFill>
                  <a:srgbClr val="33cc33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cc33"/>
                </a:solidFill>
                <a:latin typeface="Arial"/>
              </a:rPr>
              <a:t>&lt;implementatio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9900cc"/>
                </a:solidFill>
                <a:latin typeface="Arial"/>
              </a:rPr>
              <a:t>class=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"example.Binding"</a:t>
            </a:r>
            <a:r>
              <a:rPr b="0" lang="pl-PL" sz="2000" spc="-1" strike="noStrike">
                <a:solidFill>
                  <a:srgbClr val="33cc33"/>
                </a:solidFill>
                <a:latin typeface="Arial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cc33"/>
                </a:solidFill>
                <a:latin typeface="Arial"/>
              </a:rPr>
              <a:t>&lt;referenc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9900cc"/>
                </a:solidFill>
                <a:latin typeface="Arial"/>
              </a:rPr>
              <a:t>name=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"LOG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9900cc"/>
                </a:solidFill>
                <a:latin typeface="Arial"/>
              </a:rPr>
              <a:t>interface=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"org.osgi.service.log.LogServic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9900cc"/>
                </a:solidFill>
                <a:latin typeface="Arial"/>
              </a:rPr>
              <a:t>cardinality=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"1..1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9900cc"/>
                </a:solidFill>
                <a:latin typeface="Arial"/>
              </a:rPr>
              <a:t>policy=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"static"</a:t>
            </a:r>
            <a:r>
              <a:rPr b="0" lang="pl-PL" sz="2000" spc="-1" strike="noStrike">
                <a:solidFill>
                  <a:srgbClr val="33cc33"/>
                </a:solidFill>
                <a:latin typeface="Arial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cc33"/>
                </a:solidFill>
                <a:latin typeface="Arial"/>
              </a:rPr>
              <a:t>&lt;referenc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9900cc"/>
                </a:solidFill>
                <a:latin typeface="Arial"/>
              </a:rPr>
              <a:t>nam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="HTTP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9900cc"/>
                </a:solidFill>
                <a:latin typeface="Arial"/>
              </a:rPr>
              <a:t>interfac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="org.osgi.service.http.HttpServic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9900cc"/>
                </a:solidFill>
                <a:latin typeface="Arial"/>
              </a:rPr>
              <a:t>cardinality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="0..1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9900cc"/>
                </a:solidFill>
                <a:latin typeface="Arial"/>
              </a:rPr>
              <a:t>policy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="dynamic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9900cc"/>
                </a:solidFill>
                <a:latin typeface="Arial"/>
              </a:rPr>
              <a:t>bi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="setHttp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9900cc"/>
                </a:solidFill>
                <a:latin typeface="Arial"/>
              </a:rPr>
              <a:t>unbi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="unsetHttp"</a:t>
            </a:r>
            <a:r>
              <a:rPr b="0" lang="pl-PL" sz="2000" spc="-1" strike="noStrike">
                <a:solidFill>
                  <a:srgbClr val="33cc33"/>
                </a:solidFill>
                <a:latin typeface="Arial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cc33"/>
                </a:solidFill>
                <a:latin typeface="Arial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f2672"/>
                </a:solidFill>
                <a:latin typeface="Arial"/>
              </a:rPr>
              <a:t>Component implementation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ublic class Binding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ogService log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HttpService htt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otected void setHttp(HttpService h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his.http = h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// register serv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otected void unsetHttp(HttpService h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his.h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// unregister serv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otected void activate(ComponentContext context ) {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og = (LogService) context.locateService("LOG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otected void deactivate(ComponentContext context ){..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f2672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132000" y="2708280"/>
            <a:ext cx="221616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f2672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SGi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SGi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ag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clarative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f2672"/>
                </a:solidFill>
                <a:latin typeface="Arial"/>
              </a:rPr>
              <a:t>OSGi introduction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SGi™ Alliance was founded in March 1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atest specification version 4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SGi Service Platform specification delivers an open, common architectur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ervice providers, developers, software vendors, gateway operators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equipment vendors to develop, deploy and manage services in a coordinate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h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he specific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 general-purpose, secure, and managed Java framework that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the deployment of extensible and downloadable applications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n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nd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f2672"/>
                </a:solidFill>
                <a:latin typeface="Arial"/>
              </a:rPr>
              <a:t>OSGi services</a:t>
            </a:r>
            <a:br>
              <a:rPr sz="2400"/>
            </a:br>
            <a:endParaRPr b="0" lang="en-US" sz="24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he service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odel is a publish,find and bind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 service is a normal Java object that is registered under one or more Java interfaces with the service reg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ndles can register services, search for them, or receive notifications when their registration stat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f2672"/>
                </a:solidFill>
                <a:latin typeface="Arial"/>
              </a:rPr>
              <a:t>Publishing a service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 bundle registers a service object with the Framework by calling one of the BundleContext.registerService methods on its BundleContext obj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71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egisterService(String,Object,Dictionary) – For a service object registered under a single service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71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egisterService(String[],Object,Dictionary) – For a service object registered under multiple service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f2672"/>
                </a:solidFill>
                <a:latin typeface="Arial"/>
              </a:rPr>
              <a:t>Finding a service - synchronously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he BundleContext interface defines two methods a bundle can call to obtain ServiceReference objects from the Frame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716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getServiceReference(String) – This method returns a ServiceReference object to a service object that implements, and was registered under, the name of the service interface specified as 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716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getServiceReferences(String,String) – This method returns an array of ServiceReference objects th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2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mplement and were registered under the given service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2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tisfy the search filter spec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f2672"/>
                </a:solidFill>
                <a:latin typeface="Arial"/>
              </a:rPr>
              <a:t>Finding a service - asynchronously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erviceEvent – Reports registration, unregistration, and property changes for service objects. All events of this kind must be delivered synchronous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erviceListener – Called with a ServiceEvent when a service object has been registered or modified, or is in the process of unregi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The specification defines a utility class, ServiceTracker, that makes tracking the registration, modification, and unregistration of services much easier (synchronous and asynchrono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f2672"/>
                </a:solidFill>
                <a:latin typeface="Arial"/>
              </a:rPr>
              <a:t>Managed services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ndles should register a Managed Service to receive the configuration data from the Configuration Admin serv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aged Service adds a unique service.pid (persistent identifier) service registration property as a primary key for the configuration 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1066680"/>
            <a:ext cx="7737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f2672"/>
                </a:solidFill>
                <a:latin typeface="Arial"/>
              </a:rPr>
              <a:t>Managed services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55640" y="1700280"/>
          <a:ext cx="7736040" cy="31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700280"/>
                    <a:ext cx="7736040" cy="31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7:59:30Z</dcterms:created>
  <dc:creator>office mac</dc:creator>
  <dc:description/>
  <dc:language>en-US</dc:language>
  <cp:lastModifiedBy>IBM_USER</cp:lastModifiedBy>
  <dcterms:modified xsi:type="dcterms:W3CDTF">2009-06-26T07:46:10Z</dcterms:modified>
  <cp:revision>358</cp:revision>
  <dc:subject/>
  <dc:title>PowerPoint Presentation</dc:title>
</cp:coreProperties>
</file>