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A1E0-254B-4AFD-A6DD-8428FCA77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61BA-2ADE-4B15-88C2-D74A6C917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D9AB-4D31-48EC-84B5-C3B926FF5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25E6-B052-49CA-8320-F32FCB51F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4B3E-3CC4-4F90-A722-B049C6D96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AE42-4BFF-4131-8E4B-D45C672F6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AAE1-5D1E-42EA-B4E2-4CAAA05C9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4D8F-04AC-4E75-819B-C5D8E9FAD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3C1F-E8DD-4ED3-98C1-1F2F7F541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5C66-FB4E-4491-A55A-A4B6A11D0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B221-6300-4E81-B613-33EB18E6E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FDEF-21F3-4452-8B51-B310138A2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B5B80-8F38-453F-A217-9B0B75465B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WT+C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Lot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Pars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tus uses a custom parser for the following reas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use: several components in IBM use this parser alread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pports object model for C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g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tus Custom Widge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majority of our CSS support was intended to give the custom Lotus SWT widgets as much flexibility as possi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yling standard SWT widgets is supported but very limited (fonts, colors, background imag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CSS3 is Require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 make use of some of the CSS3 spe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order Radiu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re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SS Exten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tus added two extensions to the C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ckground Gradient Fil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ist of color definitions followed by list of percentag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irection of gradient is not supported yet (specified in cod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t tied to this, could move to the web’s way of doing this using imag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ive Sty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milar to Mozilla extension, intention is for the widget to take a native look and fe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SS Extensions (cont.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tus extensions were done without prefix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 should support these extensions but move to a more explicit declaration like “-moz-xxx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e http://developer.mozilla.org/en/Mozilla_CSS_Extens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ystem Col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 do some mappings between SWT system colors and CSS system colors but it’s not perfec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ee http://www.iangraham.org/books/xhtml1/appd/update-23feb2000.htm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cope styles to Windows, Perspectives and Workbench Par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do plug-ins contribute here? How can they inherit and extend an existing style? (difficul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XAML styling, is it bet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0T14:30:28Z</dcterms:created>
  <dc:creator>Matthew Hatem</dc:creator>
  <dc:description/>
  <dc:language>en-US</dc:language>
  <cp:lastModifiedBy>Matthew Hatem</cp:lastModifiedBy>
  <dcterms:modified xsi:type="dcterms:W3CDTF">2008-08-20T14:46:35Z</dcterms:modified>
  <cp:revision>2</cp:revision>
  <dc:subject/>
  <dc:title>SWT+CSS</dc:title>
</cp:coreProperties>
</file>