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F72B-2742-4DB5-A470-65D1C06F0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394056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BC55-0D2B-4D49-ABF8-224821ECE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2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97EE-1F1C-4EF6-A252-D5202E082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88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88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AA55-AFA5-48D3-B762-F59F36D33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76456-ED9D-47F9-A504-83076F0D02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A648-DFAC-46C5-9C4E-3B1C89728E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A7F5-6B2B-4249-8867-0F2D58170D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AE27-0ADB-427B-81EE-C39888EE82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EB93-E85E-41DC-A7F5-97F930EAEC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1640" y="549360"/>
            <a:ext cx="728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FEDF-53D2-4DAB-BE5A-ED6AEC8382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899F-3FBE-4240-B2A6-0BC21F777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7942-61D1-4316-B94F-64EB61214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2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9743-E0D2-4769-A3C0-14F2E6C7E8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0FC5-EB82-4E2E-927B-7BB062C168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000" y="394056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5335-498E-4123-887A-19ACD6FF0C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2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0383-B7B2-4B81-B1DE-521E8C547A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2880" y="144900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00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2880" y="3940560"/>
            <a:ext cx="250380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D45C-4763-46D3-9238-4DC55B283B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8BD2-661E-492E-99AC-50542E30E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66FC-7CF4-45D3-A646-DE2749FFB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6A34-70CF-47CF-A57E-728F0EEB9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640" y="549360"/>
            <a:ext cx="72896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DD19-2F64-4C32-9A42-AC6C4B950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D4D6-D7B8-4982-AABA-FE9C1B34F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200" y="394056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DE24-3BB2-4B1D-80B9-A3A55FC41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449000"/>
            <a:ext cx="379512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3940560"/>
            <a:ext cx="77770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23BE-4247-4D04-A947-BD81CF272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-24912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08 Eclipse Foundation, Inc.,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3E6D-6326-48FF-A8E7-604BD5AD0F7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29960" y="7632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Arial"/>
              </a:rPr>
              <a:t>Cos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FEB8-5C92-4DCC-B180-8F8334698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12AA-5D44-45E6-86CC-F5591043A82B}" type="datetime3">
              <a:rPr b="0" lang="en-US" sz="1300" spc="-1" strike="noStrike">
                <a:solidFill>
                  <a:srgbClr val="ffffff"/>
                </a:solidFill>
                <a:latin typeface="Arial"/>
              </a:rPr>
              <a:t>July 29, 20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20920" y="6308640"/>
            <a:ext cx="65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06 Eclipse Foundation, Inc.,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7920" algn="ctr">
              <a:spcBef>
                <a:spcPts val="561"/>
              </a:spcBef>
              <a:spcAft>
                <a:spcPts val="337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ocalhost:8080/COSMOSUI/json?service=org/eclipse/cosmos/internal/dr/drs/service/outputter/DomainOutputter&amp;query=initDM&amp;nodeDecorator=org.eclipse.cosmos.examples.dr.drs.service.outputter.NodeDecorator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OSMOSUI Architecture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ining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y: Sheldon Lee-Loy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2A30-0404-4829-ACC4-981647F3D3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Design Principles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uple functionality from technology to promote reu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cus on extensibility to support future use cas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400B-D262-4BC5-B2EA-C28DC2C100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haining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87880" y="1728720"/>
            <a:ext cx="41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836360"/>
            <a:ext cx="11606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15120" y="1920960"/>
            <a:ext cx="1405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751040"/>
            <a:ext cx="5253120" cy="662040"/>
          </a:xfrm>
          <a:prstGeom prst="rightArrow">
            <a:avLst>
              <a:gd name="adj1" fmla="val 50000"/>
              <a:gd name="adj2" fmla="val 19836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4033440"/>
            <a:ext cx="2052720" cy="4770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onent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286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2286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27664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033440"/>
            <a:ext cx="2052360" cy="4770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onent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5600" y="3261960"/>
            <a:ext cx="2052720" cy="4770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1960" y="4876920"/>
            <a:ext cx="78552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parate components can be defined to handle the request separate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onents can be removed or added based on a rudimentary registry mechan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039B-D608-4D3A-A1B1-33B13891CA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e Formatting.  Ordering components can change the semantic meaning of the response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quests go through a “gateway” where security restrictions can be placed on a reques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ad balancing.  Requests can be delegated to different application server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ing.  Requests and responses can be recorded and verifi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5323-CBCC-4DB4-AA3A-3F83988A1D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OSMOS UI Data Feeds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" y="2743200"/>
            <a:ext cx="1160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26280" y="2827440"/>
            <a:ext cx="1405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657520"/>
            <a:ext cx="5253120" cy="662040"/>
          </a:xfrm>
          <a:prstGeom prst="rightArrow">
            <a:avLst>
              <a:gd name="adj1" fmla="val 50000"/>
              <a:gd name="adj2" fmla="val 19836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657240" y="3182760"/>
            <a:ext cx="11160" cy="312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490560"/>
            <a:ext cx="2052720" cy="4770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19320"/>
            <a:ext cx="8001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ata feeds receive input from the browser and produces JSON structures consumed by DOJO widg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ata feeds are server side components that integrate with Data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920" y="4339080"/>
            <a:ext cx="205236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71920" y="4339080"/>
            <a:ext cx="205236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5120" y="4339080"/>
            <a:ext cx="205236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83400" y="43434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1" idx="4"/>
            <a:endCxn id="113" idx="0"/>
          </p:cNvCxnSpPr>
          <p:nvPr/>
        </p:nvCxnSpPr>
        <p:spPr>
          <a:xfrm rot="5400000">
            <a:off x="2376720" y="3012120"/>
            <a:ext cx="353160" cy="22816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1" idx="4"/>
            <a:endCxn id="115" idx="0"/>
          </p:cNvCxnSpPr>
          <p:nvPr/>
        </p:nvCxnSpPr>
        <p:spPr>
          <a:xfrm flipH="1" rot="16200000">
            <a:off x="4891680" y="2778120"/>
            <a:ext cx="353160" cy="2748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1" idx="4"/>
            <a:endCxn id="114" idx="0"/>
          </p:cNvCxnSpPr>
          <p:nvPr/>
        </p:nvCxnSpPr>
        <p:spPr>
          <a:xfrm flipH="1" rot="16200000">
            <a:off x="3520080" y="4149720"/>
            <a:ext cx="353160" cy="5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666880" y="3490560"/>
            <a:ext cx="2052720" cy="47700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9960" y="5089680"/>
            <a:ext cx="79405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or component receives HTTP Request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es request to a specific Data Feed based on request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4339080"/>
            <a:ext cx="2052720" cy="47628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339080"/>
            <a:ext cx="2052720" cy="47628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4339080"/>
            <a:ext cx="2052720" cy="476280"/>
          </a:xfrm>
          <a:prstGeom prst="ellipse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105520"/>
            <a:ext cx="79405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s receive input from the browser and produces JSON structures consumed by DOJO widg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ata feeds are server side components that integrate with Data 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Contains logic that is not dependant on the protocol used (i.e. HTTP agnosti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B413-D7D3-42A6-A685-4254D532F3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Use Case: Testing COSMOS UI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bility to provide test coverage on COSMOS data feed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-249120">
              <a:spcBef>
                <a:spcPts val="561"/>
              </a:spcBef>
              <a:spcAft>
                <a:spcPts val="337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are output from data feeds to a known controlled valid 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put</a:t>
            </a:r>
            <a:br>
              <a:rPr sz="2000"/>
            </a:br>
            <a:r>
              <a:rPr b="0" lang="en-US" sz="10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localhost:8080/COSMOSUI/json?service=org/eclipse/cosmos/internal/dr/drs/service/outputter/DomainOutputter&amp;query=initDM&amp;nodeDecorator=org.eclipse.cosmos.examples.dr.drs.service.outputter.NodeDecorator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 identifier: "object",  label: "title",  items:[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StatDataManager", title:"StatDataManager", object:"dm0"},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CBEDataManager", title:"LoggingDataManager", object:"dm1"},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mdrCMDBf", title:"Sample Repository with Registration", object:"dm2"},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mdrExample", title:"Sample Repository with Query", object:"dm3"},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{nodeClass:"mdr", title:"Resource Repository", object:"dm4"}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14240" indent="0"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]}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181120"/>
            <a:ext cx="1374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est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707080"/>
            <a:ext cx="60948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802480"/>
            <a:ext cx="60984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878440"/>
            <a:ext cx="60948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5181480"/>
            <a:ext cx="2209680" cy="152640"/>
          </a:xfrm>
          <a:prstGeom prst="rightArrow">
            <a:avLst>
              <a:gd name="adj1" fmla="val 50000"/>
              <a:gd name="adj2" fmla="val 36191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5360" y="4419720"/>
            <a:ext cx="27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. Request is sent with test inp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571032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78664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87844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5410080"/>
            <a:ext cx="2286000" cy="152640"/>
          </a:xfrm>
          <a:prstGeom prst="leftArrow">
            <a:avLst>
              <a:gd name="adj1" fmla="val 50000"/>
              <a:gd name="adj2" fmla="val 374410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600" y="4724280"/>
            <a:ext cx="434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. Response is received and compared to control 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"/>
          <p:cNvCxnSpPr/>
          <p:nvPr/>
        </p:nvCxnSpPr>
        <p:spPr>
          <a:xfrm flipV="1">
            <a:off x="6022800" y="5312880"/>
            <a:ext cx="378720" cy="3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/>
          <p:nvPr/>
        </p:nvCxnSpPr>
        <p:spPr>
          <a:xfrm>
            <a:off x="6022440" y="5349960"/>
            <a:ext cx="531000" cy="116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6022800" y="5349960"/>
            <a:ext cx="455040" cy="40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4572000" y="5134680"/>
            <a:ext cx="1447920" cy="4338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5058360"/>
            <a:ext cx="167652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5134680"/>
            <a:ext cx="167616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210640"/>
            <a:ext cx="167652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C4B7-E17D-40FA-9B8D-EE08764DA7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724280" y="2971800"/>
            <a:ext cx="2514600" cy="1295280"/>
          </a:xfrm>
          <a:prstGeom prst="can">
            <a:avLst>
              <a:gd name="adj" fmla="val 25000"/>
            </a:avLst>
          </a:prstGeom>
          <a:solidFill>
            <a:srgbClr val="dfff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Use Case: Testing COSMOS UI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181120"/>
            <a:ext cx="1374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est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 flipV="1">
            <a:off x="6022800" y="5312880"/>
            <a:ext cx="378720" cy="37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"/>
          <p:cNvCxnSpPr/>
          <p:nvPr/>
        </p:nvCxnSpPr>
        <p:spPr>
          <a:xfrm>
            <a:off x="6022440" y="5349960"/>
            <a:ext cx="531000" cy="116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" name=""/>
          <p:cNvCxnSpPr/>
          <p:nvPr/>
        </p:nvCxnSpPr>
        <p:spPr>
          <a:xfrm>
            <a:off x="6022800" y="5349960"/>
            <a:ext cx="455040" cy="40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6248520" y="3497400"/>
            <a:ext cx="60948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592440"/>
            <a:ext cx="60984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3668760"/>
            <a:ext cx="609480" cy="451080"/>
          </a:xfrm>
          <a:prstGeom prst="foldedCorner">
            <a:avLst>
              <a:gd name="adj" fmla="val 12500"/>
            </a:avLst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ol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5181480"/>
            <a:ext cx="2209680" cy="152640"/>
          </a:xfrm>
          <a:prstGeom prst="rightArrow">
            <a:avLst>
              <a:gd name="adj1" fmla="val 50000"/>
              <a:gd name="adj2" fmla="val 36191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50064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357660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3668760"/>
            <a:ext cx="914400" cy="4510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1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st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Input Fi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5410080"/>
            <a:ext cx="2286000" cy="152640"/>
          </a:xfrm>
          <a:prstGeom prst="leftArrow">
            <a:avLst>
              <a:gd name="adj1" fmla="val 50000"/>
              <a:gd name="adj2" fmla="val 374410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9120" y="1362240"/>
            <a:ext cx="1160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26280" y="1446120"/>
            <a:ext cx="1405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1276200"/>
            <a:ext cx="5253120" cy="662040"/>
          </a:xfrm>
          <a:prstGeom prst="rightArrow">
            <a:avLst>
              <a:gd name="adj1" fmla="val 50000"/>
              <a:gd name="adj2" fmla="val 19836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79400" y="1820880"/>
            <a:ext cx="11160" cy="312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2129400"/>
            <a:ext cx="2052720" cy="47628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958120"/>
            <a:ext cx="205272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958120"/>
            <a:ext cx="2052720" cy="47628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 Feed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29624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4"/>
            <a:endCxn id="165" idx="0"/>
          </p:cNvCxnSpPr>
          <p:nvPr/>
        </p:nvCxnSpPr>
        <p:spPr>
          <a:xfrm rot="5400000">
            <a:off x="1621440" y="2019240"/>
            <a:ext cx="334080" cy="1524600"/>
          </a:xfrm>
          <a:prstGeom prst="bentConnector3">
            <a:avLst>
              <a:gd name="adj1" fmla="val 49946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4" idx="4"/>
            <a:endCxn id="166" idx="0"/>
          </p:cNvCxnSpPr>
          <p:nvPr/>
        </p:nvCxnSpPr>
        <p:spPr>
          <a:xfrm flipH="1" rot="16200000">
            <a:off x="2841480" y="2323800"/>
            <a:ext cx="334080" cy="915120"/>
          </a:xfrm>
          <a:prstGeom prst="bentConnector3">
            <a:avLst>
              <a:gd name="adj1" fmla="val 499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4114800" y="1957320"/>
            <a:ext cx="2052720" cy="82044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est Recor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69960" y="1820880"/>
            <a:ext cx="11160" cy="312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0" idx="4"/>
            <a:endCxn id="146" idx="1"/>
          </p:cNvCxnSpPr>
          <p:nvPr/>
        </p:nvCxnSpPr>
        <p:spPr>
          <a:xfrm flipH="1" rot="16200000">
            <a:off x="5382360" y="2373120"/>
            <a:ext cx="357840" cy="840600"/>
          </a:xfrm>
          <a:prstGeom prst="bentConnector3">
            <a:avLst>
              <a:gd name="adj1" fmla="val 47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48" idx="0"/>
            <a:endCxn id="146" idx="3"/>
          </p:cNvCxnSpPr>
          <p:nvPr/>
        </p:nvCxnSpPr>
        <p:spPr>
          <a:xfrm flipH="1" flipV="1" rot="5400000">
            <a:off x="3219840" y="2419560"/>
            <a:ext cx="915120" cy="460944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4572000" y="5134680"/>
            <a:ext cx="1447920" cy="43380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lega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5058360"/>
            <a:ext cx="167652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5134680"/>
            <a:ext cx="167616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210640"/>
            <a:ext cx="1676520" cy="433800"/>
          </a:xfrm>
          <a:prstGeom prst="ellips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 Feed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FE41-495C-4A96-A711-25EBF18F63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onfiguration Option WEB.xml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servlet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description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/description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display-name&gt;json&lt;/display-name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servlet-name&gt;json&lt;/servlet-name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servlet-class&gt;org.eclipse.cosmos.internal.dr.drs.service.handler.common.URLDelegator&lt;/servlet-class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/servlet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context-param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param-name&gt;DELEGATORS&lt;/param-name&gt;</a:t>
            </a:r>
            <a:br>
              <a:rPr sz="1000"/>
            </a:b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param-value&gt;org.eclipse.cosmos.Delegate1, org.eclipse.cosmos.Delegate3, org.eclipse.cosmos.Delegate2&lt;/param-value&gt;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&lt;/context-param&gt;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362320"/>
            <a:ext cx="4191120" cy="22860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2000" y="4098960"/>
            <a:ext cx="419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rvlet that manages the component ch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4960" y="4495680"/>
            <a:ext cx="451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asses that implement individual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352680"/>
            <a:ext cx="5257800" cy="22860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E504-9526-4B38-BC04-475D69D0A6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640" y="549360"/>
            <a:ext cx="7289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IServletHandler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449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ackage org.eclipse.cosmos.provisional.dr.drs.service.handler.comm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.io.IO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.io.StringWriter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x.servlet.ServletConfig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x.servlet.Servlet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ort javax.servlet.http.HttpServletRequest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interface IServletHandler {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doGet(HttpServletRequest req, StringWriter resp) throws ServletException, IO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doPost(HttpServletRequest req, StringWriter resp) throws ServletException, IO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destroy()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init() throws Servlet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ublic void init(ServletConfig config) throws ServletException;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D506-827E-4359-AE71-24BB9BDE29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7:17:44Z</dcterms:created>
  <dc:creator>Labuser</dc:creator>
  <dc:description/>
  <dc:language>en-US</dc:language>
  <cp:lastModifiedBy>Labuser</cp:lastModifiedBy>
  <dcterms:modified xsi:type="dcterms:W3CDTF">2008-04-23T19:07:17Z</dcterms:modified>
  <cp:revision>10</cp:revision>
  <dc:subject/>
  <dc:title>Slide 1</dc:title>
</cp:coreProperties>
</file>