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8E12-DD9A-4593-9D1E-1BB81B1E60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mplicité pour les utilisateurs métier (graphistes et composants méti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vancé les développeurs de compo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mplicité pour les utilisateurs métier (graphistes et composants méti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vancé les développeurs de compo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mplicité pour les utilisateurs métier (graphistes et composants méti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vancé les développeurs de compo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mplicité pour les utilisateurs métier (graphistes et composants méti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vancé les développeurs de compo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parle d’IHM de présentation de contenu ou mé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igence de compétences très élevées, pour faire des IHM « Multi-threadées », ou à chargement /rafraîchissement asynch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fficile d'avoir une meilleure architecture, problématique de cohérence et de choix d’architecture (définition entreprise avec framework maison) sinon libre choix qui reposera sur le niveau de chaque concepte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ngement de technologie ou de l'environnement, comme pour l’architecture il peut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être très compliqué de changer de technologie ou d'environnement (même en java), problème du nouveau bes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esoin d'une approche Agile et MDA, Approche MDA peut compatible avec langage de progr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igence de compétences très élevées, pour faire des IHM « Multi-threadées », ou à chargement /rafraîchissement asynch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fficile d'avoir une meilleure architecture, problématique de cohérence et de choix d’architecture (définition entreprise avec framework maison) sinon libre choix qui reposera sur le niveau de chaque concepte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ngement de technologie ou de l'environnement, comme pour l’architecture il peut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être très compliqué de changer de technologie ou d'environnement (même en java), problème du nouveau bes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esoin d'une approche Agile et MDA, Approche MDA peut compatible avec langage de progr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igence de compétences très élevées, pour faire des IHM « Multi-threadées », ou à chargement /rafraîchissement asynch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fficile d'avoir une meilleure architecture, problématique de cohérence et de choix d’architecture (définition entreprise avec framework maison) sinon libre choix qui reposera sur le niveau de chaque concepte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ngement de technologie ou de l'environnement, comme pour l’architecture il peut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être très compliqué de changer de technologie ou d'environnement (même en java), problème du nouveau bes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esoin d'une approche Agile et MDA, Approche MDA peut compatible avec langage de progr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715-09F2-4D99-BCE1-13A89909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F4C-91ED-4627-AA1E-FF176D42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7CD-F47B-49FD-BCF7-B0E0E730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FEC-A486-4901-8AF0-92AA6584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67CC7-39F5-47F0-906A-7715DA88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F7A89-D0E9-4DBA-AF82-1A67E38B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31205-3482-4064-854B-8FB7D8CA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C7CEF-049E-41AE-9329-1B2BFD2A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FCA7B-2553-4349-B11F-70AA5A82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410920" y="189000"/>
            <a:ext cx="61232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91B94-D0E3-406B-AF67-165B5D66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EE915-5738-4106-B9A6-A8064D43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012-02EE-4113-AF3A-B16D5DF0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692B7-741A-44DD-964B-EE5CDA5F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10499-DE58-481E-BC51-B48A9280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F549A-AFCE-45BD-9F3D-9C351059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FA1EB-5F8A-4599-A37E-CA38D80A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C5531-81A6-4275-BB36-1D75FFDA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825-9A7C-484A-A9DE-F549EA9E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275-8236-4D01-9F5C-2487D425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322-1093-4B48-BB45-676B4DB5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10920" y="189000"/>
            <a:ext cx="61232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512-0864-45C2-BD26-5436AA92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329-DCD1-4D65-916B-1D37A375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A60-F2F8-4851-8C7C-5E178E94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761-E58D-4DF0-B5AF-F60A147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87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6000" y="623736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66F3-2F3A-4A00-81D3-0F95B20A41F6}" type="slidenum">
              <a:rPr b="0" lang="fr-FR" sz="1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636444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2006-2008 Soyatec http://www.soyatec.com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250920" y="189000"/>
            <a:ext cx="2050920" cy="49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2420640"/>
            <a:ext cx="701064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187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7236000" y="623736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B343-DF46-463E-8B89-76799D937E42}" type="slidenum">
              <a:rPr b="0" lang="fr-FR" sz="1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6391440" y="61920"/>
            <a:ext cx="2663640" cy="636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47640" y="1484280"/>
            <a:ext cx="7010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Cliquez pour modifier le style du titre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630864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2006-2008 Soyatec http://www.soyatec.com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6453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>
            <a:off x="327636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66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83664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836640"/>
            <a:ext cx="228600" cy="2286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83664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280" y="83520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2640" y="835200"/>
            <a:ext cx="228600" cy="2286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yatec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9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8360" y="4292640"/>
            <a:ext cx="309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cc"/>
                  </a:outerShdw>
                </a:effectLst>
                <a:latin typeface="Arial Black"/>
              </a:rPr>
              <a:t>Declarative UI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cc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4941720"/>
            <a:ext cx="3168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cc"/>
                  </a:outerShdw>
                </a:effectLst>
                <a:latin typeface="Arial Black"/>
              </a:rPr>
              <a:t>Programming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cc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Data Binding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92360" y="1484280"/>
            <a:ext cx="676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tex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inding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able error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update in two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ource object to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modification to data sourc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Data Binding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76000" y="1628640"/>
            <a:ext cx="748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="http://schemas.microsoft.com/winfx/2006/xaml/presentation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tle="Data binding" Width="235" Height="90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anva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Label Canvas.Top="5" Canvas.Left="5" Content="First name: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extBox Canvas.Top="5" Canvas.Left="70" Width="15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Text="{Binding Path=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FirstName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}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Label Canvas.Top="30" Canvas.Left="5“ Content="Last name: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extBox Canvas.Top="30" Canvas.Left="70" Width="15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Text="{Binding Path=</a:t>
            </a:r>
            <a:r>
              <a:rPr b="1" lang="en-US" sz="1400" spc="-1" strike="noStrike">
                <a:solidFill>
                  <a:srgbClr val="a50021"/>
                </a:solidFill>
                <a:latin typeface="Courier New"/>
              </a:rPr>
              <a:t>LastName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}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anva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Window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4000" y="1700280"/>
            <a:ext cx="7189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XAM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932360" y="4797360"/>
            <a:ext cx="2664000" cy="1020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979640" y="4724280"/>
            <a:ext cx="1871640" cy="1150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51280" y="5300640"/>
            <a:ext cx="1081080" cy="0"/>
          </a:xfrm>
          <a:prstGeom prst="line">
            <a:avLst/>
          </a:prstGeom>
          <a:ln w="572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Advanced Feature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92360" y="1412640"/>
            <a:ext cx="676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value resolution – Dependen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d Style, Style overriding and event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, MultiBinding and Priority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Trigger, EventTrigger and Multi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 for dynamic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emplate and Data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and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AML Editor on top of Eclipse XML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clipse RCP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tyle overriding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ns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http://schemas.microsoft.com/winfx/2006/xaml/present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ns:x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http://schemas.microsoft.com/winfx/2006/xaml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indow.Resourc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y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Type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Label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etter Property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ontSize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16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Window.Resourc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&lt;Label Content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Hello“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Windo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Named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632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ns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http://schemas.microsoft.com/winfx/2006/xaml/present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ns:x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http://schemas.microsoft.com/winfx/2006/xaml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indow.Resourc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yle x:Key = “BigTextLabel” TargetType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Label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etter Property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ontSize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16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Window.Resourc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Label Style="{StaticResour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TextLabe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"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ent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Hello“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Windo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Event triggered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632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ns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http://schemas.microsoft.com/winfx/2006/xaml/present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ns:x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http://schemas.microsoft.com/winfx/2006/xaml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indow.Resourc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yle x:Key = “BigTextLabel” TargetType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Label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tyle.Trigger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rigger Property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sMouseOver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rue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etter Property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Background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Red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Trigg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tyle.Trigger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Window.Resourc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Label Style="{StaticResour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TextLabe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"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ent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Hello“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Windo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Q&amp;A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92360" y="1628280"/>
            <a:ext cx="525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4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6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Contact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ves 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l: +33 (1) 60 13 06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mail: yves.yang@soyate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soyate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7056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AML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562200" y="4933800"/>
            <a:ext cx="2089440" cy="1736640"/>
            <a:chOff x="3562200" y="4933800"/>
            <a:chExt cx="2089440" cy="1736640"/>
          </a:xfrm>
        </p:grpSpPr>
        <p:graphicFrame>
          <p:nvGraphicFramePr>
            <p:cNvPr id="112" name=""/>
            <p:cNvGraphicFramePr/>
            <p:nvPr/>
          </p:nvGraphicFramePr>
          <p:xfrm>
            <a:off x="3994200" y="4933800"/>
            <a:ext cx="1270080" cy="1536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94200" y="4933800"/>
                      <a:ext cx="1270080" cy="153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3562200" y="6302160"/>
              <a:ext cx="20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Domain</a:t>
              </a:r>
              <a:r>
                <a:rPr b="0" lang="fr-FR" sz="18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developer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Need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306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4360" y="3357720"/>
          <a:ext cx="12445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357720"/>
                    <a:ext cx="12445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436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66"/>
                </a:solidFill>
                <a:latin typeface="Arial"/>
              </a:rPr>
              <a:t>Final Us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843280" y="1335240"/>
            <a:ext cx="2160360" cy="1663920"/>
            <a:chOff x="2843280" y="1335240"/>
            <a:chExt cx="2160360" cy="1663920"/>
          </a:xfrm>
        </p:grpSpPr>
        <p:graphicFrame>
          <p:nvGraphicFramePr>
            <p:cNvPr id="121" name=""/>
            <p:cNvGraphicFramePr/>
            <p:nvPr/>
          </p:nvGraphicFramePr>
          <p:xfrm>
            <a:off x="3274920" y="1335240"/>
            <a:ext cx="1143000" cy="1435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4920" y="1335240"/>
                      <a:ext cx="1143000" cy="14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2843280" y="263088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Business</a:t>
              </a:r>
              <a:r>
                <a:rPr b="0" lang="fr-FR" sz="1800" spc="-1" strike="noStrike">
                  <a:solidFill>
                    <a:srgbClr val="336666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Analyst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500720" y="2198520"/>
            <a:ext cx="2304720" cy="1737000"/>
            <a:chOff x="4500720" y="2198520"/>
            <a:chExt cx="2304720" cy="1737000"/>
          </a:xfrm>
        </p:grpSpPr>
        <p:graphicFrame>
          <p:nvGraphicFramePr>
            <p:cNvPr id="125" name=""/>
            <p:cNvGraphicFramePr/>
            <p:nvPr/>
          </p:nvGraphicFramePr>
          <p:xfrm>
            <a:off x="4932000" y="2198520"/>
            <a:ext cx="1269720" cy="1536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000" y="2198520"/>
                      <a:ext cx="1269720" cy="153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>
              <a:off x="4500720" y="3567240"/>
              <a:ext cx="23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6666"/>
                  </a:solidFill>
                  <a:latin typeface="Arial"/>
                </a:rPr>
                <a:t>Application designer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570560" y="1413000"/>
            <a:ext cx="2233440" cy="431640"/>
          </a:xfrm>
          <a:prstGeom prst="wedgeRoundRectCallout">
            <a:avLst>
              <a:gd name="adj1" fmla="val -64356"/>
              <a:gd name="adj2" fmla="val -11763"/>
              <a:gd name="adj3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isual</a:t>
            </a: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 UI Edit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2276640"/>
            <a:ext cx="1800360" cy="431640"/>
          </a:xfrm>
          <a:prstGeom prst="wedgeRoundRectCallout">
            <a:avLst>
              <a:gd name="adj1" fmla="val -70194"/>
              <a:gd name="adj2" fmla="val -8087"/>
              <a:gd name="adj3" fmla="val 1666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UI Model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2627280" y="3573360"/>
            <a:ext cx="137160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732720" y="4437000"/>
            <a:ext cx="2592360" cy="1735200"/>
            <a:chOff x="6732720" y="4437000"/>
            <a:chExt cx="2592360" cy="1735200"/>
          </a:xfrm>
        </p:grpSpPr>
        <p:graphicFrame>
          <p:nvGraphicFramePr>
            <p:cNvPr id="132" name=""/>
            <p:cNvGraphicFramePr/>
            <p:nvPr/>
          </p:nvGraphicFramePr>
          <p:xfrm>
            <a:off x="7308720" y="4437000"/>
            <a:ext cx="1270080" cy="15368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308720" y="4437000"/>
                      <a:ext cx="1270080" cy="153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6732720" y="580392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Component</a:t>
              </a:r>
              <a:r>
                <a:rPr b="0" lang="fr-FR" sz="18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6666"/>
                  </a:solidFill>
                  <a:latin typeface="Arial"/>
                </a:rPr>
                <a:t>developer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788000" y="4076640"/>
            <a:ext cx="2448000" cy="792360"/>
          </a:xfrm>
          <a:prstGeom prst="wedgeRoundRectCallout">
            <a:avLst>
              <a:gd name="adj1" fmla="val -44615"/>
              <a:gd name="adj2" fmla="val 69837"/>
              <a:gd name="adj3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UI Cod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isual</a:t>
            </a:r>
            <a:r>
              <a:rPr b="0" lang="fr-FR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UI Edit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Need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92360" y="1628640"/>
            <a:ext cx="619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A UI Mode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UI Resource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50920" y="1413000"/>
            <a:ext cx="6913800" cy="5256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76040" y="189000"/>
            <a:ext cx="56134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Need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3430440"/>
          <a:ext cx="12445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430440"/>
                    <a:ext cx="12445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11280" y="486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66"/>
                </a:solidFill>
                <a:latin typeface="Arial"/>
              </a:rPr>
              <a:t>Final Us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1628640"/>
            <a:ext cx="2233440" cy="432000"/>
          </a:xfrm>
          <a:prstGeom prst="wedgeRoundRectCallout">
            <a:avLst>
              <a:gd name="adj1" fmla="val -65847"/>
              <a:gd name="adj2" fmla="val -4046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isual</a:t>
            </a: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 UI Edit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27640" y="2349360"/>
            <a:ext cx="1800360" cy="432000"/>
          </a:xfrm>
          <a:prstGeom prst="wedgeRoundRectCallout">
            <a:avLst>
              <a:gd name="adj1" fmla="val -70194"/>
              <a:gd name="adj2" fmla="val -8087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UI Model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4149720"/>
            <a:ext cx="2448000" cy="792000"/>
          </a:xfrm>
          <a:prstGeom prst="wedgeRoundRectCallout">
            <a:avLst>
              <a:gd name="adj1" fmla="val -64722"/>
              <a:gd name="adj2" fmla="val 60222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UI Cod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isual</a:t>
            </a:r>
            <a:r>
              <a:rPr b="0" lang="fr-FR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UI Edit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3213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2627280" y="3718080"/>
            <a:ext cx="1371600" cy="1168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8" name=""/>
          <p:cNvSpPr/>
          <p:nvPr/>
        </p:nvSpPr>
        <p:spPr>
          <a:xfrm>
            <a:off x="6012000" y="630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27640" y="2421000"/>
            <a:ext cx="2304720" cy="1665000"/>
            <a:chOff x="4427640" y="2421000"/>
            <a:chExt cx="2304720" cy="1665000"/>
          </a:xfrm>
        </p:grpSpPr>
        <p:sp>
          <p:nvSpPr>
            <p:cNvPr id="150" name=""/>
            <p:cNvSpPr/>
            <p:nvPr/>
          </p:nvSpPr>
          <p:spPr>
            <a:xfrm>
              <a:off x="4427640" y="3717720"/>
              <a:ext cx="23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Application designer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7"/>
            <a:stretch/>
          </p:blipFill>
          <p:spPr>
            <a:xfrm>
              <a:off x="5003640" y="2421000"/>
              <a:ext cx="990720" cy="130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3635280" y="5078520"/>
            <a:ext cx="2089080" cy="1592280"/>
            <a:chOff x="3635280" y="5078520"/>
            <a:chExt cx="2089080" cy="1592280"/>
          </a:xfrm>
        </p:grpSpPr>
        <p:sp>
          <p:nvSpPr>
            <p:cNvPr id="153" name=""/>
            <p:cNvSpPr/>
            <p:nvPr/>
          </p:nvSpPr>
          <p:spPr>
            <a:xfrm>
              <a:off x="3635280" y="630252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omain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veloper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8"/>
            <a:stretch/>
          </p:blipFill>
          <p:spPr>
            <a:xfrm>
              <a:off x="4066920" y="5078520"/>
              <a:ext cx="990360" cy="130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6732720" y="5076720"/>
            <a:ext cx="990360" cy="13082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771640" y="1479600"/>
            <a:ext cx="2160720" cy="1663920"/>
            <a:chOff x="2771640" y="1479600"/>
            <a:chExt cx="2160720" cy="1663920"/>
          </a:xfrm>
        </p:grpSpPr>
        <p:sp>
          <p:nvSpPr>
            <p:cNvPr id="157" name=""/>
            <p:cNvSpPr/>
            <p:nvPr/>
          </p:nvSpPr>
          <p:spPr>
            <a:xfrm>
              <a:off x="2771640" y="27752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Business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nalyst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0"/>
            <a:stretch/>
          </p:blipFill>
          <p:spPr>
            <a:xfrm>
              <a:off x="3276720" y="1479600"/>
              <a:ext cx="1003320" cy="13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 txBox="1"/>
          <p:nvPr/>
        </p:nvSpPr>
        <p:spPr>
          <a:xfrm>
            <a:off x="7308720" y="155736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2700000" blurRad="0" rotWithShape="0">
                    <a:srgbClr val="000099"/>
                  </a:outerShdw>
                </a:effectLst>
                <a:latin typeface="Arial Black"/>
              </a:rPr>
              <a:t>XAM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27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Architectur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492280"/>
            <a:ext cx="1584360" cy="936720"/>
          </a:xfrm>
          <a:prstGeom prst="rect">
            <a:avLst/>
          </a:prstGeom>
          <a:solidFill>
            <a:srgbClr val="a1d1fd"/>
          </a:solidFill>
          <a:ln w="9360">
            <a:solidFill>
              <a:srgbClr val="336666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66"/>
                </a:solidFill>
                <a:latin typeface="Arial"/>
                <a:ea typeface="ＭＳ Ｐゴシック"/>
              </a:rPr>
              <a:t>XAML Fil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19280" y="2997360"/>
            <a:ext cx="1081080" cy="0"/>
          </a:xfrm>
          <a:prstGeom prst="line">
            <a:avLst/>
          </a:prstGeom>
          <a:ln w="572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5229360"/>
            <a:ext cx="187164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Jav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35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66"/>
                </a:solidFill>
                <a:latin typeface="Arial"/>
                <a:ea typeface="ＭＳ Ｐゴシック"/>
              </a:rPr>
              <a:t>GUI Ressourc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35280" y="5877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Dynamic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  <a:ea typeface="ＭＳ Ｐゴシック"/>
              </a:rPr>
              <a:t>GU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816360" cy="3246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>
            <a:off x="6300720" y="4365360"/>
            <a:ext cx="0" cy="863640"/>
          </a:xfrm>
          <a:prstGeom prst="line">
            <a:avLst/>
          </a:prstGeom>
          <a:ln w="57240">
            <a:solidFill>
              <a:srgbClr val="0000c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13160" y="4869000"/>
            <a:ext cx="0" cy="938160"/>
          </a:xfrm>
          <a:prstGeom prst="line">
            <a:avLst/>
          </a:prstGeom>
          <a:ln w="57240">
            <a:solidFill>
              <a:srgbClr val="3366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19280" y="4392720"/>
            <a:ext cx="10810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84720" y="5805360"/>
            <a:ext cx="158256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479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Event / Act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Architectur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6621480" y="4076640"/>
            <a:ext cx="25225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ＭＳ Ｐゴシック"/>
              </a:rPr>
              <a:t>Meta model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ＭＳ Ｐゴシック"/>
              </a:rPr>
              <a:t>Abstract and generic model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ＭＳ Ｐゴシック"/>
              </a:rPr>
              <a:t>Programming </a:t>
            </a: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API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ＭＳ Ｐゴシック"/>
              </a:rPr>
              <a:t>Event management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ＭＳ Ｐゴシック"/>
              </a:rPr>
              <a:t>Data binding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54696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XAML Fundamentals</a:t>
            </a:r>
            <a:br>
              <a:rPr sz="2800"/>
            </a:br>
            <a:r>
              <a:rPr b="1" i="1" lang="en-US" sz="2000" spc="-1" strike="noStrike">
                <a:solidFill>
                  <a:srgbClr val="000066"/>
                </a:solidFill>
                <a:latin typeface="Verdana"/>
              </a:rPr>
              <a:t>Hello, world!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403280" y="1700280"/>
            <a:ext cx="74883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&lt;Window    xmlns="http://schemas.microsoft.com/winfx/2006/xaml/presentation"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Title=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aranc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utt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ntS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ntWeights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="Bold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lo world!&lt;/Button&gt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&lt;/Window&gt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Window window = </a:t>
            </a:r>
            <a:r>
              <a:rPr b="1" lang="fr-FR" sz="1400" spc="-1" strike="noStrike">
                <a:solidFill>
                  <a:srgbClr val="a50021"/>
                </a:solidFill>
                <a:latin typeface="Courier New"/>
              </a:rPr>
              <a:t>new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Window()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Window.setTitle(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aranc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Button button = new Button()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Button.setFontSize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Button.setFontWeights(FontWeights.BOLD)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Window.getChildren().add(button)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Window.show()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64000" y="5013360"/>
            <a:ext cx="2521080" cy="1130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324000" y="1773360"/>
            <a:ext cx="7189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XAM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3213000"/>
            <a:ext cx="649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v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6123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Verdana"/>
              </a:rPr>
              <a:t>XAML Fundamentals </a:t>
            </a:r>
            <a:br>
              <a:rPr sz="2800"/>
            </a:br>
            <a:r>
              <a:rPr b="1" i="1" lang="fr-FR" sz="2000" spc="-1" strike="noStrike">
                <a:solidFill>
                  <a:srgbClr val="000066"/>
                </a:solidFill>
                <a:latin typeface="Verdana"/>
              </a:rPr>
              <a:t>Event Handling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489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&lt;Window   xmlns="http://schemas.microsoft.com/winfx/2006/xaml/presentation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x:Class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"tutorial.event.handling.Handler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Title="Event handlin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utt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ck=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"onClick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Click here!&lt;/Butt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&lt;/Window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357720"/>
            <a:ext cx="74901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Courier New"/>
              </a:rPr>
              <a:t>packag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tutorial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event.handling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Courier New"/>
              </a:rPr>
              <a:t>impor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com.soyatec.eface.upf.actions.RoutedEventArgs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Courier New"/>
              </a:rPr>
              <a:t>public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a50021"/>
                </a:solidFill>
                <a:latin typeface="Courier New"/>
              </a:rPr>
              <a:t>class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Handler {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a50021"/>
                </a:solidFill>
                <a:latin typeface="Courier New"/>
              </a:rPr>
              <a:t>public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a50021"/>
                </a:solidFill>
                <a:latin typeface="Courier New"/>
              </a:rPr>
              <a:t>void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nClic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(Object sender, RoutedEventArgs args) {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System.</a:t>
            </a:r>
            <a:r>
              <a:rPr b="0" i="1" lang="fr-FR" sz="14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.println("</a:t>
            </a:r>
            <a:r>
              <a:rPr b="0" lang="fr-FR" sz="1400" spc="-1" strike="noStrike">
                <a:solidFill>
                  <a:srgbClr val="0000ff"/>
                </a:solidFill>
                <a:latin typeface="Courier New"/>
              </a:rPr>
              <a:t>Hello world!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419640" y="5445000"/>
            <a:ext cx="2663640" cy="817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324000" y="3645000"/>
            <a:ext cx="64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v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4000" y="1700280"/>
            <a:ext cx="7189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XAM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2:34:27Z</dcterms:created>
  <dc:creator>dev</dc:creator>
  <dc:description/>
  <dc:language>en-US</dc:language>
  <cp:lastModifiedBy>yyang</cp:lastModifiedBy>
  <dcterms:modified xsi:type="dcterms:W3CDTF">2008-08-20T15:02:05Z</dcterms:modified>
  <cp:revision>333</cp:revision>
  <dc:subject/>
  <dc:title>eFace</dc:title>
</cp:coreProperties>
</file>