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46.jpeg" ContentType="image/jpeg"/>
  <Override PartName="/ppt/media/image122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81.png" ContentType="image/png"/>
  <Override PartName="/ppt/media/image112.png" ContentType="image/png"/>
  <Override PartName="/ppt/media/image111.png" ContentType="image/png"/>
  <Override PartName="/ppt/media/image108.png" ContentType="image/png"/>
  <Override PartName="/ppt/media/image176.png" ContentType="image/png"/>
  <Override PartName="/ppt/media/image106.png" ContentType="image/png"/>
  <Override PartName="/ppt/media/image174.png" ContentType="image/png"/>
  <Override PartName="/ppt/media/image105.png" ContentType="image/png"/>
  <Override PartName="/ppt/media/image173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94.jpeg" ContentType="image/jpeg"/>
  <Override PartName="/ppt/media/image93.jpeg" ContentType="image/jpeg"/>
  <Override PartName="/ppt/media/image22.png" ContentType="image/png"/>
  <Override PartName="/ppt/media/image90.png" ContentType="image/png"/>
  <Override PartName="/ppt/media/image89.png" ContentType="image/png"/>
  <Override PartName="/ppt/media/image88.jpeg" ContentType="image/jpeg"/>
  <Override PartName="/ppt/media/image85.png" ContentType="image/png"/>
  <Override PartName="/ppt/media/image17.png" ContentType="image/png"/>
  <Override PartName="/ppt/media/image81.jpeg" ContentType="image/jpeg"/>
  <Override PartName="/ppt/media/image80.png" ContentType="image/png"/>
  <Override PartName="/ppt/media/image12.png" ContentType="image/png"/>
  <Override PartName="/ppt/media/image79.png" ContentType="image/png"/>
  <Override PartName="/ppt/media/image77.png" ContentType="image/png"/>
  <Override PartName="/ppt/media/image76.png" ContentType="image/png"/>
  <Override PartName="/ppt/media/image71.png" ContentType="image/png"/>
  <Override PartName="/ppt/media/image70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49.png" ContentType="image/png"/>
  <Override PartName="/ppt/media/image100.png" ContentType="image/png"/>
  <Override PartName="/ppt/media/image64.jpeg" ContentType="image/jpeg"/>
  <Override PartName="/ppt/media/image39.png" ContentType="image/png"/>
  <Override PartName="/ppt/media/image31.png" ContentType="image/png"/>
  <Override PartName="/ppt/media/image9.png" ContentType="image/png"/>
  <Override PartName="/ppt/media/image33.png" ContentType="image/png"/>
  <Override PartName="/ppt/media/image50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3.png" ContentType="image/png"/>
  <Override PartName="/ppt/media/image128.jpeg" ContentType="image/jpeg"/>
  <Override PartName="/ppt/media/image136.png" ContentType="image/png"/>
  <Override PartName="/ppt/media/image48.jpeg" ContentType="image/jpeg"/>
  <Override PartName="/ppt/media/image78.png" ContentType="image/png"/>
  <Override PartName="/ppt/media/image129.png" ContentType="image/png"/>
  <Override PartName="/ppt/media/image46.png" ContentType="image/png"/>
  <Override PartName="/ppt/media/image132.png" ContentType="image/png"/>
  <Override PartName="/ppt/media/image147.png" ContentType="image/png"/>
  <Override PartName="/ppt/media/image32.jpeg" ContentType="image/jpeg"/>
  <Override PartName="/ppt/media/image133.png" ContentType="image/png"/>
  <Override PartName="/ppt/media/image163.png" ContentType="image/png"/>
  <Override PartName="/ppt/media/image164.png" ContentType="image/png"/>
  <Override PartName="/ppt/media/image160.png" ContentType="image/png"/>
  <Override PartName="/ppt/media/image169.jpeg" ContentType="image/jpeg"/>
  <Override PartName="/ppt/media/image165.png" ContentType="image/png"/>
  <Override PartName="/ppt/media/image134.png" ContentType="image/png"/>
  <Override PartName="/ppt/media/image180.jpeg" ContentType="image/jpeg"/>
  <Override PartName="/ppt/media/image43.png" ContentType="image/png"/>
  <Override PartName="/ppt/media/image166.png" ContentType="image/png"/>
  <Override PartName="/ppt/media/image161.jpeg" ContentType="image/jpeg"/>
  <Override PartName="/ppt/media/image178.jpeg" ContentType="image/jpeg"/>
  <Override PartName="/ppt/media/image45.png" ContentType="image/png"/>
  <Override PartName="/ppt/media/image131.png" ContentType="image/png"/>
  <Override PartName="/ppt/media/image168.png" ContentType="image/png"/>
  <Override PartName="/ppt/media/image44.png" ContentType="image/png"/>
  <Override PartName="/ppt/media/image40.jpeg" ContentType="image/jpeg"/>
  <Override PartName="/ppt/media/image56.png" ContentType="image/png"/>
  <Override PartName="/ppt/media/image167.png" ContentType="image/png"/>
  <Override PartName="/ppt/media/image179.jpeg" ContentType="image/jpeg"/>
  <Override PartName="/ppt/media/image143.png" ContentType="image/png"/>
  <Override PartName="/ppt/media/image162.png" ContentType="image/png"/>
  <Override PartName="/ppt/media/image155.png" ContentType="image/png"/>
  <Override PartName="/ppt/media/image66.png" ContentType="image/png"/>
  <Override PartName="/ppt/media/image41.jpeg" ContentType="image/jpeg"/>
  <Override PartName="/ppt/media/image152.png" ContentType="image/png"/>
  <Override PartName="/ppt/media/image151.png" ContentType="image/png"/>
  <Override PartName="/ppt/media/image150.png" ContentType="image/png"/>
  <Override PartName="/ppt/media/image138.jpeg" ContentType="image/jpeg"/>
  <Override PartName="/ppt/media/image42.jpeg" ContentType="image/jpeg"/>
  <Override PartName="/ppt/media/image86.png" ContentType="image/png"/>
  <Override PartName="/ppt/media/image18.png" ContentType="image/png"/>
  <Override PartName="/ppt/media/image73.jpeg" ContentType="image/jpeg"/>
  <Override PartName="/ppt/media/image83.png" ContentType="image/png"/>
  <Override PartName="/ppt/media/image53.png" ContentType="image/png"/>
  <Override PartName="/ppt/media/image153.png" ContentType="image/png"/>
  <Override PartName="/ppt/media/image149.jpeg" ContentType="image/jpeg"/>
  <Override PartName="/ppt/media/image142.png" ContentType="image/png"/>
  <Override PartName="/ppt/media/image145.png" ContentType="image/png"/>
  <Override PartName="/ppt/media/image144.png" ContentType="image/png"/>
  <Override PartName="/ppt/media/image55.png" ContentType="image/png"/>
  <Override PartName="/ppt/media/image141.png" ContentType="image/png"/>
  <Override PartName="/ppt/media/image139.png" ContentType="image/png"/>
  <Override PartName="/ppt/media/image54.png" ContentType="image/png"/>
  <Override PartName="/ppt/media/image140.png" ContentType="image/png"/>
  <Override PartName="/ppt/media/image137.png" ContentType="image/png"/>
  <Override PartName="/ppt/media/image109.png" ContentType="image/png"/>
  <Override PartName="/ppt/media/image177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19.png" ContentType="image/png"/>
  <Override PartName="/ppt/media/image6.png" ContentType="image/png"/>
  <Override PartName="/ppt/media/image158.png" ContentType="image/png"/>
  <Override PartName="/ppt/media/image63.jpeg" ContentType="image/jpeg"/>
  <Override PartName="/ppt/media/image38.png" ContentType="image/png"/>
  <Override PartName="/ppt/media/image8.jpeg" ContentType="image/jpeg"/>
  <Override PartName="/ppt/media/image23.png" ContentType="image/png"/>
  <Override PartName="/ppt/media/image91.png" ContentType="image/png"/>
  <Override PartName="/ppt/media/image75.jpeg" ContentType="image/jpe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30.png" ContentType="image/png"/>
  <Override PartName="/ppt/media/image3.jpeg" ContentType="image/jpe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72.jpeg" ContentType="image/jpeg"/>
  <Override PartName="/ppt/media/image25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75.png" ContentType="image/png"/>
  <Override PartName="/ppt/media/image107.png" ContentType="image/png"/>
  <Override PartName="/ppt/media/image15.jpeg" ContentType="image/jpe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36.jpeg" ContentType="image/jpeg"/>
  <Override PartName="/ppt/media/image119.png" ContentType="image/png"/>
  <Override PartName="/ppt/media/image11.jpeg" ContentType="image/jpeg"/>
  <Override PartName="/ppt/media/image87.jpeg" ContentType="image/jpeg"/>
  <Override PartName="/ppt/media/image121.png" ContentType="image/png"/>
  <Override PartName="/ppt/media/image24.png" ContentType="image/png"/>
  <Override PartName="/ppt/media/image130.jpeg" ContentType="image/jpeg"/>
  <Override PartName="/ppt/media/image92.png" ContentType="image/png"/>
  <Override PartName="/ppt/media/image26.jpeg" ContentType="image/jpeg"/>
  <Override PartName="/ppt/media/image101.png" ContentType="image/png"/>
  <Override PartName="/ppt/media/image61.jpeg" ContentType="image/jpeg"/>
  <Override PartName="/ppt/media/image135.jpeg" ContentType="image/jpeg"/>
  <Override PartName="/ppt/media/image74.png" ContentType="image/png"/>
  <Override PartName="/ppt/media/image65.png" ContentType="image/png"/>
  <Override PartName="/ppt/media/image6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"/>
          <p:cNvSpPr/>
          <p:nvPr/>
        </p:nvSpPr>
        <p:spPr>
          <a:xfrm>
            <a:off x="4021200" y="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82600" y="766440"/>
            <a:ext cx="471816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656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718560"/>
            <a:ext cx="3076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6216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C33D7-D960-4D83-AF89-383E1804D716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7E1A4-76D8-4741-A7F4-EB0EFEF018C7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C9070-825E-4751-A4B9-388BAF9120BB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0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2C8D4-F41A-47E6-B92B-BC1D83E8CEF5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691DA-CADE-44F3-A95F-4CD4380C8B9D}" type="slidenum">
              <a:rPr b="0" lang="en-US" sz="8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7C6A3-350F-4B64-BF64-453220471384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E88B5-70E0-48BF-B90A-57D1EA43E0C2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6" name=""/>
          <p:cNvSpPr/>
          <p:nvPr/>
        </p:nvSpPr>
        <p:spPr>
          <a:xfrm>
            <a:off x="1182600" y="766800"/>
            <a:ext cx="473076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182600" y="766800"/>
            <a:ext cx="4721400" cy="382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B977B-FF52-46D5-955E-899127150EED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3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F30A-77BD-48E5-9B1E-37617A63614E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45C8-629F-462F-B8BD-5DB1EB8E28DD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6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DC8A-FD34-4566-846A-58F4DB8413B3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843AC-4A34-47A3-8F71-CC1483A0F4BA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0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4DFE2-AA64-4EEF-862E-FB47C193DF39}" type="slidenum">
              <a:rPr b="0" lang="en-US" sz="8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AB312-4657-4456-9441-EBFFA78775F7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5B5C1-D87C-4CDB-819B-EA12BB16DBAC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7" name=""/>
          <p:cNvSpPr/>
          <p:nvPr/>
        </p:nvSpPr>
        <p:spPr>
          <a:xfrm>
            <a:off x="1182600" y="766800"/>
            <a:ext cx="473256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28516-1CFF-4187-9299-C754A1CDC151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03C43-6B13-4B47-A79F-166A8C6F6D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1" name=""/>
          <p:cNvSpPr/>
          <p:nvPr/>
        </p:nvSpPr>
        <p:spPr>
          <a:xfrm>
            <a:off x="990720" y="7682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94BE-F46E-469B-BD7E-508F2BAC0095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4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1223640" y="4746600"/>
            <a:ext cx="4986360" cy="3160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4021200" y="9720360"/>
            <a:ext cx="3065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AB80-DA79-4950-ADFB-60A62181AAAD}" type="slidenum">
              <a:rPr b="0" lang="en-CA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"/>
          <p:cNvSpPr/>
          <p:nvPr/>
        </p:nvSpPr>
        <p:spPr>
          <a:xfrm>
            <a:off x="1182600" y="893880"/>
            <a:ext cx="4768920" cy="35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9600" y="2743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04280" y="71280"/>
            <a:ext cx="1539720" cy="1540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8760" y="6286680"/>
            <a:ext cx="8286480" cy="144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9600" y="2743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102888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643040" y="6356520"/>
            <a:ext cx="584352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jpe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jpe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jpe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jpe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43.png"/><Relationship Id="rId43" Type="http://schemas.openxmlformats.org/officeDocument/2006/relationships/image" Target="../media/image44.png"/><Relationship Id="rId44" Type="http://schemas.openxmlformats.org/officeDocument/2006/relationships/image" Target="../media/image45.pn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image" Target="../media/image48.jpeg"/><Relationship Id="rId48" Type="http://schemas.openxmlformats.org/officeDocument/2006/relationships/image" Target="../media/image49.png"/><Relationship Id="rId49" Type="http://schemas.openxmlformats.org/officeDocument/2006/relationships/image" Target="../media/image50.png"/><Relationship Id="rId50" Type="http://schemas.openxmlformats.org/officeDocument/2006/relationships/image" Target="../media/image51.png"/><Relationship Id="rId51" Type="http://schemas.openxmlformats.org/officeDocument/2006/relationships/image" Target="../media/image52.png"/><Relationship Id="rId52" Type="http://schemas.openxmlformats.org/officeDocument/2006/relationships/image" Target="../media/image53.png"/><Relationship Id="rId53" Type="http://schemas.openxmlformats.org/officeDocument/2006/relationships/image" Target="../media/image54.png"/><Relationship Id="rId54" Type="http://schemas.openxmlformats.org/officeDocument/2006/relationships/image" Target="../media/image55.png"/><Relationship Id="rId55" Type="http://schemas.openxmlformats.org/officeDocument/2006/relationships/image" Target="../media/image56.png"/><Relationship Id="rId56" Type="http://schemas.openxmlformats.org/officeDocument/2006/relationships/image" Target="../media/image57.png"/><Relationship Id="rId57" Type="http://schemas.openxmlformats.org/officeDocument/2006/relationships/image" Target="../media/image58.png"/><Relationship Id="rId58" Type="http://schemas.openxmlformats.org/officeDocument/2006/relationships/image" Target="../media/image59.png"/><Relationship Id="rId59" Type="http://schemas.openxmlformats.org/officeDocument/2006/relationships/image" Target="../media/image60.png"/><Relationship Id="rId60" Type="http://schemas.openxmlformats.org/officeDocument/2006/relationships/image" Target="../media/image61.jpeg"/><Relationship Id="rId61" Type="http://schemas.openxmlformats.org/officeDocument/2006/relationships/image" Target="../media/image62.png"/><Relationship Id="rId62" Type="http://schemas.openxmlformats.org/officeDocument/2006/relationships/image" Target="../media/image63.jpeg"/><Relationship Id="rId63" Type="http://schemas.openxmlformats.org/officeDocument/2006/relationships/image" Target="../media/image64.jpeg"/><Relationship Id="rId64" Type="http://schemas.openxmlformats.org/officeDocument/2006/relationships/image" Target="../media/image65.png"/><Relationship Id="rId65" Type="http://schemas.openxmlformats.org/officeDocument/2006/relationships/image" Target="../media/image66.png"/><Relationship Id="rId66" Type="http://schemas.openxmlformats.org/officeDocument/2006/relationships/image" Target="../media/image67.png"/><Relationship Id="rId67" Type="http://schemas.openxmlformats.org/officeDocument/2006/relationships/image" Target="../media/image68.png"/><Relationship Id="rId68" Type="http://schemas.openxmlformats.org/officeDocument/2006/relationships/image" Target="../media/image69.png"/><Relationship Id="rId69" Type="http://schemas.openxmlformats.org/officeDocument/2006/relationships/image" Target="../media/image70.png"/><Relationship Id="rId70" Type="http://schemas.openxmlformats.org/officeDocument/2006/relationships/image" Target="../media/image71.png"/><Relationship Id="rId71" Type="http://schemas.openxmlformats.org/officeDocument/2006/relationships/image" Target="../media/image72.jpeg"/><Relationship Id="rId72" Type="http://schemas.openxmlformats.org/officeDocument/2006/relationships/image" Target="../media/image73.jpeg"/><Relationship Id="rId73" Type="http://schemas.openxmlformats.org/officeDocument/2006/relationships/image" Target="../media/image74.png"/><Relationship Id="rId74" Type="http://schemas.openxmlformats.org/officeDocument/2006/relationships/image" Target="../media/image75.jpeg"/><Relationship Id="rId75" Type="http://schemas.openxmlformats.org/officeDocument/2006/relationships/image" Target="../media/image76.png"/><Relationship Id="rId76" Type="http://schemas.openxmlformats.org/officeDocument/2006/relationships/image" Target="../media/image77.png"/><Relationship Id="rId77" Type="http://schemas.openxmlformats.org/officeDocument/2006/relationships/image" Target="../media/image78.png"/><Relationship Id="rId78" Type="http://schemas.openxmlformats.org/officeDocument/2006/relationships/image" Target="../media/image79.png"/><Relationship Id="rId79" Type="http://schemas.openxmlformats.org/officeDocument/2006/relationships/image" Target="../media/image80.png"/><Relationship Id="rId80" Type="http://schemas.openxmlformats.org/officeDocument/2006/relationships/image" Target="../media/image81.jpeg"/><Relationship Id="rId81" Type="http://schemas.openxmlformats.org/officeDocument/2006/relationships/image" Target="../media/image82.png"/><Relationship Id="rId82" Type="http://schemas.openxmlformats.org/officeDocument/2006/relationships/image" Target="../media/image83.png"/><Relationship Id="rId83" Type="http://schemas.openxmlformats.org/officeDocument/2006/relationships/image" Target="../media/image84.png"/><Relationship Id="rId84" Type="http://schemas.openxmlformats.org/officeDocument/2006/relationships/image" Target="../media/image85.png"/><Relationship Id="rId85" Type="http://schemas.openxmlformats.org/officeDocument/2006/relationships/image" Target="../media/image86.png"/><Relationship Id="rId86" Type="http://schemas.openxmlformats.org/officeDocument/2006/relationships/image" Target="../media/image87.jpeg"/><Relationship Id="rId87" Type="http://schemas.openxmlformats.org/officeDocument/2006/relationships/image" Target="../media/image88.jpeg"/><Relationship Id="rId88" Type="http://schemas.openxmlformats.org/officeDocument/2006/relationships/image" Target="../media/image89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png"/><Relationship Id="rId92" Type="http://schemas.openxmlformats.org/officeDocument/2006/relationships/image" Target="../media/image93.jpeg"/><Relationship Id="rId93" Type="http://schemas.openxmlformats.org/officeDocument/2006/relationships/image" Target="../media/image94.jpeg"/><Relationship Id="rId94" Type="http://schemas.openxmlformats.org/officeDocument/2006/relationships/image" Target="../media/image95.png"/><Relationship Id="rId95" Type="http://schemas.openxmlformats.org/officeDocument/2006/relationships/image" Target="../media/image96.png"/><Relationship Id="rId96" Type="http://schemas.openxmlformats.org/officeDocument/2006/relationships/image" Target="../media/image97.png"/><Relationship Id="rId97" Type="http://schemas.openxmlformats.org/officeDocument/2006/relationships/image" Target="../media/image98.png"/><Relationship Id="rId98" Type="http://schemas.openxmlformats.org/officeDocument/2006/relationships/image" Target="../media/image99.png"/><Relationship Id="rId99" Type="http://schemas.openxmlformats.org/officeDocument/2006/relationships/image" Target="../media/image100.png"/><Relationship Id="rId100" Type="http://schemas.openxmlformats.org/officeDocument/2006/relationships/image" Target="../media/image101.png"/><Relationship Id="rId101" Type="http://schemas.openxmlformats.org/officeDocument/2006/relationships/image" Target="../media/image102.png"/><Relationship Id="rId102" Type="http://schemas.openxmlformats.org/officeDocument/2006/relationships/image" Target="../media/image103.png"/><Relationship Id="rId103" Type="http://schemas.openxmlformats.org/officeDocument/2006/relationships/image" Target="../media/image104.png"/><Relationship Id="rId104" Type="http://schemas.openxmlformats.org/officeDocument/2006/relationships/image" Target="../media/image105.png"/><Relationship Id="rId105" Type="http://schemas.openxmlformats.org/officeDocument/2006/relationships/image" Target="../media/image106.png"/><Relationship Id="rId106" Type="http://schemas.openxmlformats.org/officeDocument/2006/relationships/image" Target="../media/image107.png"/><Relationship Id="rId107" Type="http://schemas.openxmlformats.org/officeDocument/2006/relationships/image" Target="../media/image108.png"/><Relationship Id="rId108" Type="http://schemas.openxmlformats.org/officeDocument/2006/relationships/image" Target="../media/image109.png"/><Relationship Id="rId109" Type="http://schemas.openxmlformats.org/officeDocument/2006/relationships/image" Target="../media/image110.png"/><Relationship Id="rId110" Type="http://schemas.openxmlformats.org/officeDocument/2006/relationships/image" Target="../media/image111.png"/><Relationship Id="rId111" Type="http://schemas.openxmlformats.org/officeDocument/2006/relationships/image" Target="../media/image112.png"/><Relationship Id="rId112" Type="http://schemas.openxmlformats.org/officeDocument/2006/relationships/image" Target="../media/image113.png"/><Relationship Id="rId113" Type="http://schemas.openxmlformats.org/officeDocument/2006/relationships/image" Target="../media/image114.png"/><Relationship Id="rId114" Type="http://schemas.openxmlformats.org/officeDocument/2006/relationships/image" Target="../media/image115.png"/><Relationship Id="rId115" Type="http://schemas.openxmlformats.org/officeDocument/2006/relationships/image" Target="../media/image116.png"/><Relationship Id="rId116" Type="http://schemas.openxmlformats.org/officeDocument/2006/relationships/image" Target="../media/image117.png"/><Relationship Id="rId117" Type="http://schemas.openxmlformats.org/officeDocument/2006/relationships/image" Target="../media/image118.png"/><Relationship Id="rId118" Type="http://schemas.openxmlformats.org/officeDocument/2006/relationships/image" Target="../media/image119.png"/><Relationship Id="rId119" Type="http://schemas.openxmlformats.org/officeDocument/2006/relationships/image" Target="../media/image120.png"/><Relationship Id="rId120" Type="http://schemas.openxmlformats.org/officeDocument/2006/relationships/image" Target="../media/image121.png"/><Relationship Id="rId121" Type="http://schemas.openxmlformats.org/officeDocument/2006/relationships/image" Target="../media/image122.png"/><Relationship Id="rId122" Type="http://schemas.openxmlformats.org/officeDocument/2006/relationships/image" Target="../media/image123.png"/><Relationship Id="rId123" Type="http://schemas.openxmlformats.org/officeDocument/2006/relationships/image" Target="../media/image124.png"/><Relationship Id="rId124" Type="http://schemas.openxmlformats.org/officeDocument/2006/relationships/image" Target="../media/image125.png"/><Relationship Id="rId125" Type="http://schemas.openxmlformats.org/officeDocument/2006/relationships/image" Target="../media/image126.png"/><Relationship Id="rId126" Type="http://schemas.openxmlformats.org/officeDocument/2006/relationships/image" Target="../media/image127.jpeg"/><Relationship Id="rId127" Type="http://schemas.openxmlformats.org/officeDocument/2006/relationships/image" Target="../media/image128.jpeg"/><Relationship Id="rId128" Type="http://schemas.openxmlformats.org/officeDocument/2006/relationships/image" Target="../media/image129.png"/><Relationship Id="rId129" Type="http://schemas.openxmlformats.org/officeDocument/2006/relationships/image" Target="../media/image130.jpeg"/><Relationship Id="rId130" Type="http://schemas.openxmlformats.org/officeDocument/2006/relationships/image" Target="../media/image131.png"/><Relationship Id="rId131" Type="http://schemas.openxmlformats.org/officeDocument/2006/relationships/image" Target="../media/image132.png"/><Relationship Id="rId132" Type="http://schemas.openxmlformats.org/officeDocument/2006/relationships/image" Target="../media/image133.png"/><Relationship Id="rId133" Type="http://schemas.openxmlformats.org/officeDocument/2006/relationships/image" Target="../media/image134.png"/><Relationship Id="rId134" Type="http://schemas.openxmlformats.org/officeDocument/2006/relationships/image" Target="../media/image135.jpeg"/><Relationship Id="rId135" Type="http://schemas.openxmlformats.org/officeDocument/2006/relationships/image" Target="../media/image136.png"/><Relationship Id="rId136" Type="http://schemas.openxmlformats.org/officeDocument/2006/relationships/image" Target="../media/image137.png"/><Relationship Id="rId137" Type="http://schemas.openxmlformats.org/officeDocument/2006/relationships/image" Target="../media/image138.jpeg"/><Relationship Id="rId138" Type="http://schemas.openxmlformats.org/officeDocument/2006/relationships/image" Target="../media/image139.png"/><Relationship Id="rId139" Type="http://schemas.openxmlformats.org/officeDocument/2006/relationships/image" Target="../media/image140.png"/><Relationship Id="rId140" Type="http://schemas.openxmlformats.org/officeDocument/2006/relationships/image" Target="../media/image141.png"/><Relationship Id="rId141" Type="http://schemas.openxmlformats.org/officeDocument/2006/relationships/image" Target="../media/image142.png"/><Relationship Id="rId142" Type="http://schemas.openxmlformats.org/officeDocument/2006/relationships/image" Target="../media/image143.png"/><Relationship Id="rId143" Type="http://schemas.openxmlformats.org/officeDocument/2006/relationships/image" Target="../media/image144.png"/><Relationship Id="rId144" Type="http://schemas.openxmlformats.org/officeDocument/2006/relationships/image" Target="../media/image145.png"/><Relationship Id="rId145" Type="http://schemas.openxmlformats.org/officeDocument/2006/relationships/image" Target="../media/image146.jpeg"/><Relationship Id="rId146" Type="http://schemas.openxmlformats.org/officeDocument/2006/relationships/image" Target="../media/image147.png"/><Relationship Id="rId147" Type="http://schemas.openxmlformats.org/officeDocument/2006/relationships/image" Target="../media/image148.png"/><Relationship Id="rId148" Type="http://schemas.openxmlformats.org/officeDocument/2006/relationships/image" Target="../media/image149.jpeg"/><Relationship Id="rId149" Type="http://schemas.openxmlformats.org/officeDocument/2006/relationships/image" Target="../media/image150.png"/><Relationship Id="rId150" Type="http://schemas.openxmlformats.org/officeDocument/2006/relationships/image" Target="../media/image151.png"/><Relationship Id="rId151" Type="http://schemas.openxmlformats.org/officeDocument/2006/relationships/image" Target="../media/image152.png"/><Relationship Id="rId152" Type="http://schemas.openxmlformats.org/officeDocument/2006/relationships/image" Target="../media/image153.png"/><Relationship Id="rId153" Type="http://schemas.openxmlformats.org/officeDocument/2006/relationships/image" Target="../media/image154.png"/><Relationship Id="rId154" Type="http://schemas.openxmlformats.org/officeDocument/2006/relationships/image" Target="../media/image155.png"/><Relationship Id="rId155" Type="http://schemas.openxmlformats.org/officeDocument/2006/relationships/image" Target="../media/image156.png"/><Relationship Id="rId156" Type="http://schemas.openxmlformats.org/officeDocument/2006/relationships/image" Target="../media/image157.png"/><Relationship Id="rId157" Type="http://schemas.openxmlformats.org/officeDocument/2006/relationships/image" Target="../media/image158.png"/><Relationship Id="rId158" Type="http://schemas.openxmlformats.org/officeDocument/2006/relationships/image" Target="../media/image159.png"/><Relationship Id="rId159" Type="http://schemas.openxmlformats.org/officeDocument/2006/relationships/image" Target="../media/image160.png"/><Relationship Id="rId160" Type="http://schemas.openxmlformats.org/officeDocument/2006/relationships/image" Target="../media/image161.jpeg"/><Relationship Id="rId161" Type="http://schemas.openxmlformats.org/officeDocument/2006/relationships/image" Target="../media/image162.png"/><Relationship Id="rId162" Type="http://schemas.openxmlformats.org/officeDocument/2006/relationships/image" Target="../media/image163.png"/><Relationship Id="rId163" Type="http://schemas.openxmlformats.org/officeDocument/2006/relationships/image" Target="../media/image164.png"/><Relationship Id="rId164" Type="http://schemas.openxmlformats.org/officeDocument/2006/relationships/image" Target="../media/image165.png"/><Relationship Id="rId165" Type="http://schemas.openxmlformats.org/officeDocument/2006/relationships/image" Target="../media/image166.png"/><Relationship Id="rId166" Type="http://schemas.openxmlformats.org/officeDocument/2006/relationships/image" Target="../media/image167.png"/><Relationship Id="rId167" Type="http://schemas.openxmlformats.org/officeDocument/2006/relationships/image" Target="../media/image168.png"/><Relationship Id="rId168" Type="http://schemas.openxmlformats.org/officeDocument/2006/relationships/image" Target="../media/image169.jpeg"/><Relationship Id="rId169" Type="http://schemas.openxmlformats.org/officeDocument/2006/relationships/image" Target="../media/image170.png"/><Relationship Id="rId170" Type="http://schemas.openxmlformats.org/officeDocument/2006/relationships/image" Target="../media/image171.png"/><Relationship Id="rId171" Type="http://schemas.openxmlformats.org/officeDocument/2006/relationships/image" Target="../media/image172.png"/><Relationship Id="rId172" Type="http://schemas.openxmlformats.org/officeDocument/2006/relationships/image" Target="../media/image173.png"/><Relationship Id="rId173" Type="http://schemas.openxmlformats.org/officeDocument/2006/relationships/image" Target="../media/image174.png"/><Relationship Id="rId174" Type="http://schemas.openxmlformats.org/officeDocument/2006/relationships/slideLayout" Target="../slideLayouts/slideLayout1.xml"/><Relationship Id="rId17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176.png"/><Relationship Id="rId3" Type="http://schemas.openxmlformats.org/officeDocument/2006/relationships/image" Target="../media/image17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62240" y="2954160"/>
            <a:ext cx="54864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Eclipse Modeling Platform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An Open Collaboration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994280" y="1371600"/>
            <a:ext cx="657360" cy="1932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371" name=""/>
          <p:cNvSpPr/>
          <p:nvPr/>
        </p:nvSpPr>
        <p:spPr>
          <a:xfrm>
            <a:off x="3924360" y="2471760"/>
            <a:ext cx="1219320" cy="525600"/>
          </a:xfrm>
          <a:prstGeom prst="rect">
            <a:avLst/>
          </a:prstGeom>
          <a:solidFill>
            <a:srgbClr val="ee1c25">
              <a:alpha val="70000"/>
            </a:srgbClr>
          </a:solidFill>
          <a:ln w="31680">
            <a:solidFill>
              <a:srgbClr val="ee1c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"/>
          <p:cNvSpPr/>
          <p:nvPr/>
        </p:nvSpPr>
        <p:spPr>
          <a:xfrm>
            <a:off x="3995640" y="1700280"/>
            <a:ext cx="1219320" cy="525240"/>
          </a:xfrm>
          <a:prstGeom prst="rect">
            <a:avLst/>
          </a:prstGeom>
          <a:solidFill>
            <a:srgbClr val="332d73">
              <a:alpha val="80000"/>
            </a:srgbClr>
          </a:solidFill>
          <a:ln w="316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"/>
          <p:cNvSpPr/>
          <p:nvPr/>
        </p:nvSpPr>
        <p:spPr>
          <a:xfrm>
            <a:off x="541440" y="438120"/>
            <a:ext cx="8278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400" spc="-1" strike="noStrike">
                <a:solidFill>
                  <a:srgbClr val="40588b"/>
                </a:solidFill>
                <a:latin typeface="Gill Sans MT"/>
              </a:rPr>
              <a:t>Collaborative IT Solutions of Tomorrow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1512720"/>
            <a:ext cx="342900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4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Shared development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and maintenance of 'commodity components' leads to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cost saving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Functionality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driven by the use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rchitecture standardized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through Eclipse Technical Platform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Good re-use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of platform components possible (e.g., BI, Reporting, BPM, Application Infrastructure)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Better integration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/ interoperability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Create an </a:t>
            </a: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open platform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for easy adoption by customers and partners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20000"/>
              </a:lnSpc>
              <a:tabLst>
                <a:tab algn="l" pos="0"/>
                <a:tab algn="l" pos="138240"/>
                <a:tab algn="l" pos="595440"/>
                <a:tab algn="l" pos="1052640"/>
                <a:tab algn="l" pos="1509840"/>
                <a:tab algn="l" pos="1967040"/>
                <a:tab algn="l" pos="2424240"/>
                <a:tab algn="l" pos="2881440"/>
                <a:tab algn="l" pos="3338640"/>
                <a:tab algn="l" pos="3795840"/>
                <a:tab algn="l" pos="4253040"/>
                <a:tab algn="l" pos="4710240"/>
                <a:tab algn="l" pos="5167440"/>
                <a:tab algn="l" pos="5624640"/>
                <a:tab algn="l" pos="6081840"/>
                <a:tab algn="l" pos="6539040"/>
                <a:tab algn="l" pos="6996240"/>
                <a:tab algn="l" pos="7453440"/>
                <a:tab algn="l" pos="7910640"/>
                <a:tab algn="l" pos="8367840"/>
                <a:tab algn="l" pos="8825040"/>
                <a:tab algn="l" pos="92822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019920" y="3200400"/>
            <a:ext cx="684000" cy="493560"/>
            <a:chOff x="6019920" y="3200400"/>
            <a:chExt cx="684000" cy="493560"/>
          </a:xfrm>
        </p:grpSpPr>
        <p:sp>
          <p:nvSpPr>
            <p:cNvPr id="376" name=""/>
            <p:cNvSpPr/>
            <p:nvPr/>
          </p:nvSpPr>
          <p:spPr>
            <a:xfrm>
              <a:off x="6134040" y="3200400"/>
              <a:ext cx="493920" cy="493560"/>
            </a:xfrm>
            <a:prstGeom prst="ellipse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19920" y="330372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934320" y="3772080"/>
            <a:ext cx="684000" cy="493560"/>
            <a:chOff x="6934320" y="3772080"/>
            <a:chExt cx="684000" cy="493560"/>
          </a:xfrm>
        </p:grpSpPr>
        <p:sp>
          <p:nvSpPr>
            <p:cNvPr id="379" name=""/>
            <p:cNvSpPr/>
            <p:nvPr/>
          </p:nvSpPr>
          <p:spPr>
            <a:xfrm>
              <a:off x="7048440" y="3772080"/>
              <a:ext cx="493920" cy="493560"/>
            </a:xfrm>
            <a:prstGeom prst="ellipse">
              <a:avLst/>
            </a:prstGeom>
            <a:solidFill>
              <a:srgbClr val="d91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34320" y="386712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19920" y="3772080"/>
            <a:ext cx="684000" cy="493560"/>
            <a:chOff x="6019920" y="3772080"/>
            <a:chExt cx="684000" cy="493560"/>
          </a:xfrm>
        </p:grpSpPr>
        <p:sp>
          <p:nvSpPr>
            <p:cNvPr id="382" name=""/>
            <p:cNvSpPr/>
            <p:nvPr/>
          </p:nvSpPr>
          <p:spPr>
            <a:xfrm>
              <a:off x="6134040" y="3772080"/>
              <a:ext cx="493920" cy="493560"/>
            </a:xfrm>
            <a:prstGeom prst="ellipse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9920" y="387684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934320" y="3218040"/>
            <a:ext cx="684000" cy="493560"/>
            <a:chOff x="6934320" y="3218040"/>
            <a:chExt cx="684000" cy="493560"/>
          </a:xfrm>
        </p:grpSpPr>
        <p:sp>
          <p:nvSpPr>
            <p:cNvPr id="385" name=""/>
            <p:cNvSpPr/>
            <p:nvPr/>
          </p:nvSpPr>
          <p:spPr>
            <a:xfrm>
              <a:off x="7048440" y="3218040"/>
              <a:ext cx="493920" cy="493560"/>
            </a:xfrm>
            <a:prstGeom prst="ellipse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34320" y="3321000"/>
              <a:ext cx="684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543800" y="3218040"/>
            <a:ext cx="684360" cy="493560"/>
            <a:chOff x="7543800" y="3218040"/>
            <a:chExt cx="684360" cy="493560"/>
          </a:xfrm>
        </p:grpSpPr>
        <p:sp>
          <p:nvSpPr>
            <p:cNvPr id="388" name=""/>
            <p:cNvSpPr/>
            <p:nvPr/>
          </p:nvSpPr>
          <p:spPr>
            <a:xfrm>
              <a:off x="7658280" y="3218040"/>
              <a:ext cx="493560" cy="493560"/>
            </a:xfrm>
            <a:prstGeom prst="ellipse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3800" y="3322800"/>
              <a:ext cx="6843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Gill Sans MT"/>
                </a:rPr>
                <a:t>APP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658280" y="3781440"/>
            <a:ext cx="495000" cy="49536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76840"/>
            <a:ext cx="685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"/>
          <p:cNvSpPr/>
          <p:nvPr/>
        </p:nvSpPr>
        <p:spPr>
          <a:xfrm>
            <a:off x="5880240" y="2924280"/>
            <a:ext cx="2592360" cy="144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"/>
          <p:cNvSpPr/>
          <p:nvPr/>
        </p:nvSpPr>
        <p:spPr>
          <a:xfrm>
            <a:off x="5651640" y="1268280"/>
            <a:ext cx="2952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2d73"/>
                </a:solidFill>
                <a:latin typeface="Gill Sans MT"/>
              </a:rPr>
              <a:t>ECLIPSE TECHNICAL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"/>
          <p:cNvSpPr/>
          <p:nvPr/>
        </p:nvSpPr>
        <p:spPr>
          <a:xfrm>
            <a:off x="5448240" y="1785960"/>
            <a:ext cx="3238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2d73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1760400"/>
            <a:ext cx="2592360" cy="180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1268280"/>
            <a:ext cx="2592360" cy="180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994280" y="3236760"/>
            <a:ext cx="657360" cy="217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7615080" y="2276640"/>
            <a:ext cx="843120" cy="606240"/>
            <a:chOff x="7615080" y="2276640"/>
            <a:chExt cx="843120" cy="606240"/>
          </a:xfrm>
        </p:grpSpPr>
        <p:sp>
          <p:nvSpPr>
            <p:cNvPr id="399" name=""/>
            <p:cNvSpPr/>
            <p:nvPr/>
          </p:nvSpPr>
          <p:spPr>
            <a:xfrm>
              <a:off x="7615080" y="2276640"/>
              <a:ext cx="843120" cy="606240"/>
            </a:xfrm>
            <a:prstGeom prst="rect">
              <a:avLst/>
            </a:prstGeom>
            <a:solidFill>
              <a:srgbClr val="ee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7826400" y="2390760"/>
              <a:ext cx="360360" cy="331920"/>
              <a:chOff x="7826400" y="2390760"/>
              <a:chExt cx="360360" cy="33192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7891560" y="2448000"/>
                <a:ext cx="196920" cy="171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826400" y="2390760"/>
                <a:ext cx="360360" cy="331920"/>
                <a:chOff x="7826400" y="2390760"/>
                <a:chExt cx="360360" cy="3319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826400" y="2516040"/>
                  <a:ext cx="162000" cy="173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015400" y="2390760"/>
                  <a:ext cx="137880" cy="14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088480" y="2619360"/>
                  <a:ext cx="98280" cy="1033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8074080" y="2448000"/>
                  <a:ext cx="79200" cy="239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891560" y="2602080"/>
                  <a:ext cx="26172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08" name=""/>
          <p:cNvGrpSpPr/>
          <p:nvPr/>
        </p:nvGrpSpPr>
        <p:grpSpPr>
          <a:xfrm>
            <a:off x="6751800" y="2276640"/>
            <a:ext cx="842760" cy="606240"/>
            <a:chOff x="6751800" y="2276640"/>
            <a:chExt cx="842760" cy="606240"/>
          </a:xfrm>
        </p:grpSpPr>
        <p:sp>
          <p:nvSpPr>
            <p:cNvPr id="409" name=""/>
            <p:cNvSpPr/>
            <p:nvPr/>
          </p:nvSpPr>
          <p:spPr>
            <a:xfrm>
              <a:off x="6751800" y="2276640"/>
              <a:ext cx="842760" cy="60624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6954840" y="2448000"/>
              <a:ext cx="358920" cy="366480"/>
              <a:chOff x="6954840" y="2448000"/>
              <a:chExt cx="358920" cy="36648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7020000" y="2511360"/>
                <a:ext cx="196920" cy="185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6954840" y="2448000"/>
                <a:ext cx="358920" cy="366480"/>
                <a:chOff x="6954840" y="2448000"/>
                <a:chExt cx="358920" cy="366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954840" y="2585880"/>
                  <a:ext cx="163440" cy="190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142040" y="2448000"/>
                  <a:ext cx="138240" cy="16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16920" y="2700360"/>
                  <a:ext cx="96840" cy="114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7201080" y="2511360"/>
                  <a:ext cx="79200" cy="262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020000" y="2679840"/>
                  <a:ext cx="261720" cy="7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5899320" y="2276640"/>
            <a:ext cx="842760" cy="620640"/>
            <a:chOff x="5899320" y="2276640"/>
            <a:chExt cx="842760" cy="620640"/>
          </a:xfrm>
        </p:grpSpPr>
        <p:sp>
          <p:nvSpPr>
            <p:cNvPr id="419" name=""/>
            <p:cNvSpPr/>
            <p:nvPr/>
          </p:nvSpPr>
          <p:spPr>
            <a:xfrm>
              <a:off x="5899320" y="22766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127920" y="2390760"/>
              <a:ext cx="357120" cy="311040"/>
              <a:chOff x="6127920" y="2390760"/>
              <a:chExt cx="357120" cy="31104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6192720" y="244476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6127920" y="2390760"/>
                <a:ext cx="357120" cy="311040"/>
                <a:chOff x="6127920" y="2390760"/>
                <a:chExt cx="357120" cy="311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127920" y="2508120"/>
                  <a:ext cx="1616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15120" y="2390760"/>
                  <a:ext cx="138240" cy="13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388200" y="2604960"/>
                  <a:ext cx="96840" cy="96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6372000" y="24433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192720" y="25891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428" name=""/>
          <p:cNvSpPr/>
          <p:nvPr/>
        </p:nvSpPr>
        <p:spPr>
          <a:xfrm>
            <a:off x="3851280" y="1773360"/>
            <a:ext cx="1219320" cy="52524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"/>
          <p:cNvSpPr/>
          <p:nvPr/>
        </p:nvSpPr>
        <p:spPr>
          <a:xfrm>
            <a:off x="3832200" y="2543040"/>
            <a:ext cx="1219320" cy="52560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"/>
          <p:cNvSpPr/>
          <p:nvPr/>
        </p:nvSpPr>
        <p:spPr>
          <a:xfrm>
            <a:off x="3852720" y="4349880"/>
            <a:ext cx="1219320" cy="525240"/>
          </a:xfrm>
          <a:prstGeom prst="rect">
            <a:avLst/>
          </a:prstGeom>
          <a:solidFill>
            <a:srgbClr val="ee1c25">
              <a:alpha val="70000"/>
            </a:srgbClr>
          </a:solidFill>
          <a:ln w="31680">
            <a:solidFill>
              <a:srgbClr val="ee1c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"/>
          <p:cNvSpPr/>
          <p:nvPr/>
        </p:nvSpPr>
        <p:spPr>
          <a:xfrm>
            <a:off x="3924360" y="3578400"/>
            <a:ext cx="1219320" cy="525240"/>
          </a:xfrm>
          <a:prstGeom prst="rect">
            <a:avLst/>
          </a:prstGeom>
          <a:solidFill>
            <a:srgbClr val="332d73">
              <a:alpha val="80000"/>
            </a:srgbClr>
          </a:solidFill>
          <a:ln w="316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Bank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"/>
          <p:cNvSpPr/>
          <p:nvPr/>
        </p:nvSpPr>
        <p:spPr>
          <a:xfrm>
            <a:off x="3780000" y="365112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"/>
          <p:cNvSpPr/>
          <p:nvPr/>
        </p:nvSpPr>
        <p:spPr>
          <a:xfrm>
            <a:off x="3760920" y="4421160"/>
            <a:ext cx="1218960" cy="52560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4" name=""/>
          <p:cNvSpPr/>
          <p:nvPr/>
        </p:nvSpPr>
        <p:spPr>
          <a:xfrm>
            <a:off x="5796000" y="4797360"/>
            <a:ext cx="121932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"/>
          <p:cNvSpPr/>
          <p:nvPr/>
        </p:nvSpPr>
        <p:spPr>
          <a:xfrm>
            <a:off x="7481880" y="4797360"/>
            <a:ext cx="121932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371600"/>
            <a:ext cx="73486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22860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332d73"/>
                </a:solidFill>
                <a:latin typeface="Calibri"/>
                <a:ea typeface="Lucida Sans Unicode"/>
              </a:rPr>
              <a:t>Open Source Platform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600200"/>
            <a:ext cx="82184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development model encourages open innovatio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ness, Transparency, Meritocracy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Anyone can participat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licensing allows competitors to collaborate on infrastructure technolog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No requirement for royalties.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No single control point of intellectual property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Open Source business model encourages rapid adoption of technolog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39800" indent="-282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alibri"/>
                <a:ea typeface="Lucida Sans Unicode"/>
              </a:rPr>
              <a:t>It is free, easy to access and easy for others to add valu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"/>
          <p:cNvSpPr/>
          <p:nvPr/>
        </p:nvSpPr>
        <p:spPr>
          <a:xfrm>
            <a:off x="1004760" y="162864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Eclipse Modeling Plat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transition spd="med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9240" y="22860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</a:rPr>
              <a:t>Eclipse Modeling Today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486400" y="2057400"/>
            <a:ext cx="843120" cy="620640"/>
            <a:chOff x="5486400" y="2057400"/>
            <a:chExt cx="843120" cy="620640"/>
          </a:xfrm>
        </p:grpSpPr>
        <p:sp>
          <p:nvSpPr>
            <p:cNvPr id="444" name=""/>
            <p:cNvSpPr/>
            <p:nvPr/>
          </p:nvSpPr>
          <p:spPr>
            <a:xfrm>
              <a:off x="5486400" y="20574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715000" y="2171880"/>
              <a:ext cx="360360" cy="314280"/>
              <a:chOff x="5715000" y="2171880"/>
              <a:chExt cx="360360" cy="31428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5780160" y="222552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5715000" y="2171880"/>
                <a:ext cx="360360" cy="314280"/>
                <a:chOff x="5715000" y="2171880"/>
                <a:chExt cx="360360" cy="314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715000" y="228924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902200" y="21718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977080" y="23875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5959080" y="22251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80160" y="237168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53" name=""/>
          <p:cNvGrpSpPr/>
          <p:nvPr/>
        </p:nvGrpSpPr>
        <p:grpSpPr>
          <a:xfrm>
            <a:off x="6243480" y="3036960"/>
            <a:ext cx="843120" cy="620640"/>
            <a:chOff x="6243480" y="3036960"/>
            <a:chExt cx="843120" cy="620640"/>
          </a:xfrm>
        </p:grpSpPr>
        <p:sp>
          <p:nvSpPr>
            <p:cNvPr id="454" name=""/>
            <p:cNvSpPr/>
            <p:nvPr/>
          </p:nvSpPr>
          <p:spPr>
            <a:xfrm>
              <a:off x="6243480" y="30369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6472080" y="3151080"/>
              <a:ext cx="360360" cy="314280"/>
              <a:chOff x="6472080" y="3151080"/>
              <a:chExt cx="360360" cy="314280"/>
            </a:xfrm>
          </p:grpSpPr>
          <p:sp>
            <p:nvSpPr>
              <p:cNvPr id="456" name=""/>
              <p:cNvSpPr/>
              <p:nvPr/>
            </p:nvSpPr>
            <p:spPr>
              <a:xfrm flipV="1">
                <a:off x="6537240" y="320508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6472080" y="3151080"/>
                <a:ext cx="360360" cy="314280"/>
                <a:chOff x="6472080" y="3151080"/>
                <a:chExt cx="360360" cy="3142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6472080" y="3268800"/>
                  <a:ext cx="16380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659640" y="31510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34160" y="33670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 flipV="1">
                  <a:off x="6717960" y="32047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37240" y="335124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63" name=""/>
          <p:cNvGrpSpPr/>
          <p:nvPr/>
        </p:nvGrpSpPr>
        <p:grpSpPr>
          <a:xfrm>
            <a:off x="5100480" y="3657600"/>
            <a:ext cx="843120" cy="620640"/>
            <a:chOff x="5100480" y="3657600"/>
            <a:chExt cx="843120" cy="620640"/>
          </a:xfrm>
        </p:grpSpPr>
        <p:sp>
          <p:nvSpPr>
            <p:cNvPr id="464" name=""/>
            <p:cNvSpPr/>
            <p:nvPr/>
          </p:nvSpPr>
          <p:spPr>
            <a:xfrm>
              <a:off x="5100480" y="36576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327640" y="3772080"/>
              <a:ext cx="361800" cy="314280"/>
              <a:chOff x="5327640" y="3772080"/>
              <a:chExt cx="361800" cy="31428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5394240" y="382572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5327640" y="3772080"/>
                <a:ext cx="361800" cy="314280"/>
                <a:chOff x="5327640" y="3772080"/>
                <a:chExt cx="361800" cy="3142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327640" y="388944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16640" y="37720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591160" y="39877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 flipV="1">
                  <a:off x="5574960" y="38253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394240" y="397188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73" name=""/>
          <p:cNvGrpSpPr/>
          <p:nvPr/>
        </p:nvGrpSpPr>
        <p:grpSpPr>
          <a:xfrm>
            <a:off x="7386480" y="2286000"/>
            <a:ext cx="843120" cy="620640"/>
            <a:chOff x="7386480" y="2286000"/>
            <a:chExt cx="843120" cy="620640"/>
          </a:xfrm>
        </p:grpSpPr>
        <p:sp>
          <p:nvSpPr>
            <p:cNvPr id="474" name=""/>
            <p:cNvSpPr/>
            <p:nvPr/>
          </p:nvSpPr>
          <p:spPr>
            <a:xfrm>
              <a:off x="7386480" y="228600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615080" y="2400480"/>
              <a:ext cx="360360" cy="314280"/>
              <a:chOff x="7615080" y="2400480"/>
              <a:chExt cx="360360" cy="314280"/>
            </a:xfrm>
          </p:grpSpPr>
          <p:sp>
            <p:nvSpPr>
              <p:cNvPr id="476" name=""/>
              <p:cNvSpPr/>
              <p:nvPr/>
            </p:nvSpPr>
            <p:spPr>
              <a:xfrm flipV="1">
                <a:off x="7680240" y="245268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7615080" y="2400480"/>
                <a:ext cx="360360" cy="314280"/>
                <a:chOff x="7615080" y="2400480"/>
                <a:chExt cx="360360" cy="314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615080" y="2517840"/>
                  <a:ext cx="16380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02640" y="240048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77160" y="261612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 flipV="1">
                  <a:off x="7860960" y="245376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680240" y="260028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83" name=""/>
          <p:cNvGrpSpPr/>
          <p:nvPr/>
        </p:nvGrpSpPr>
        <p:grpSpPr>
          <a:xfrm>
            <a:off x="6400800" y="4179960"/>
            <a:ext cx="843120" cy="620640"/>
            <a:chOff x="6400800" y="4179960"/>
            <a:chExt cx="843120" cy="620640"/>
          </a:xfrm>
        </p:grpSpPr>
        <p:sp>
          <p:nvSpPr>
            <p:cNvPr id="484" name=""/>
            <p:cNvSpPr/>
            <p:nvPr/>
          </p:nvSpPr>
          <p:spPr>
            <a:xfrm>
              <a:off x="6400800" y="41799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629400" y="4292640"/>
              <a:ext cx="360360" cy="315720"/>
              <a:chOff x="6629400" y="4292640"/>
              <a:chExt cx="360360" cy="31572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6694560" y="434664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629400" y="4292640"/>
                <a:ext cx="360360" cy="315720"/>
                <a:chOff x="6629400" y="4292640"/>
                <a:chExt cx="360360" cy="315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629400" y="441180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816600" y="42926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891480" y="45100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6873480" y="43477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694560" y="449424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493" name=""/>
          <p:cNvGrpSpPr/>
          <p:nvPr/>
        </p:nvGrpSpPr>
        <p:grpSpPr>
          <a:xfrm>
            <a:off x="7543800" y="3494160"/>
            <a:ext cx="843120" cy="620640"/>
            <a:chOff x="7543800" y="3494160"/>
            <a:chExt cx="843120" cy="620640"/>
          </a:xfrm>
        </p:grpSpPr>
        <p:sp>
          <p:nvSpPr>
            <p:cNvPr id="494" name=""/>
            <p:cNvSpPr/>
            <p:nvPr/>
          </p:nvSpPr>
          <p:spPr>
            <a:xfrm>
              <a:off x="7543800" y="349416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7772400" y="3606840"/>
              <a:ext cx="360360" cy="315720"/>
              <a:chOff x="7772400" y="3606840"/>
              <a:chExt cx="360360" cy="315720"/>
            </a:xfrm>
          </p:grpSpPr>
          <p:sp>
            <p:nvSpPr>
              <p:cNvPr id="496" name=""/>
              <p:cNvSpPr/>
              <p:nvPr/>
            </p:nvSpPr>
            <p:spPr>
              <a:xfrm flipV="1">
                <a:off x="7837560" y="3660840"/>
                <a:ext cx="196920" cy="163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772400" y="3606840"/>
                <a:ext cx="360360" cy="315720"/>
                <a:chOff x="7772400" y="3606840"/>
                <a:chExt cx="360360" cy="315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772400" y="372600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59600" y="36068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034480" y="382428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8016480" y="366192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837560" y="380844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503" name=""/>
          <p:cNvSpPr/>
          <p:nvPr/>
        </p:nvSpPr>
        <p:spPr>
          <a:xfrm>
            <a:off x="439560" y="2006640"/>
            <a:ext cx="43610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stantial Technology Portfoli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Over 50 different open source project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Participation from 20 different organization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More than 10 million lines of code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Representing over $100 million investment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"/>
          <p:cNvSpPr/>
          <p:nvPr/>
        </p:nvSpPr>
        <p:spPr>
          <a:xfrm>
            <a:off x="439560" y="3554280"/>
            <a:ext cx="34466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verse Capabiliti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Domain Specific Languages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Enterprise Architecture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System Engineering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ill Sans MT"/>
              </a:rPr>
              <a:t>Business Process Modeling</a:t>
            </a: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Modeling Tools Today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7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514600"/>
            <a:ext cx="990720" cy="1828800"/>
          </a:xfrm>
          <a:prstGeom prst="rect">
            <a:avLst/>
          </a:prstGeom>
          <a:solidFill>
            <a:srgbClr val="f1592a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514600"/>
            <a:ext cx="990720" cy="1828800"/>
          </a:xfrm>
          <a:prstGeom prst="rect">
            <a:avLst/>
          </a:prstGeom>
          <a:solidFill>
            <a:srgbClr val="ee1c25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B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952880" y="2590920"/>
            <a:ext cx="417600" cy="363240"/>
            <a:chOff x="4952880" y="2590920"/>
            <a:chExt cx="417600" cy="363240"/>
          </a:xfrm>
        </p:grpSpPr>
        <p:sp>
          <p:nvSpPr>
            <p:cNvPr id="511" name=""/>
            <p:cNvSpPr/>
            <p:nvPr/>
          </p:nvSpPr>
          <p:spPr>
            <a:xfrm flipV="1">
              <a:off x="5029200" y="2655720"/>
              <a:ext cx="227160" cy="18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952880" y="2590920"/>
              <a:ext cx="417600" cy="363240"/>
              <a:chOff x="4952880" y="2590920"/>
              <a:chExt cx="417600" cy="363240"/>
            </a:xfrm>
          </p:grpSpPr>
          <p:sp>
            <p:nvSpPr>
              <p:cNvPr id="513" name=""/>
              <p:cNvSpPr/>
              <p:nvPr/>
            </p:nvSpPr>
            <p:spPr>
              <a:xfrm>
                <a:off x="4952880" y="2728800"/>
                <a:ext cx="19080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70320" y="259092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56360" y="2841480"/>
                <a:ext cx="11412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5239800" y="265536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29200" y="2822400"/>
                <a:ext cx="303120" cy="74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2971800" y="2057400"/>
            <a:ext cx="1440" cy="2590920"/>
          </a:xfrm>
          <a:prstGeom prst="line">
            <a:avLst/>
          </a:prstGeom>
          <a:ln w="57240">
            <a:solidFill>
              <a:srgbClr val="2e2e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"/>
          <p:cNvSpPr/>
          <p:nvPr/>
        </p:nvSpPr>
        <p:spPr>
          <a:xfrm>
            <a:off x="1068840" y="4800600"/>
            <a:ext cx="4065120" cy="10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ndor Solu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rong focus on usability and integration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standards based but limited interoperability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difficult to extend or customize for internal need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72320" y="2449440"/>
            <a:ext cx="842760" cy="620640"/>
            <a:chOff x="5872320" y="2449440"/>
            <a:chExt cx="842760" cy="620640"/>
          </a:xfrm>
        </p:grpSpPr>
        <p:sp>
          <p:nvSpPr>
            <p:cNvPr id="521" name=""/>
            <p:cNvSpPr/>
            <p:nvPr/>
          </p:nvSpPr>
          <p:spPr>
            <a:xfrm>
              <a:off x="5872320" y="24494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100920" y="2563920"/>
              <a:ext cx="360360" cy="314280"/>
              <a:chOff x="6100920" y="2563920"/>
              <a:chExt cx="360360" cy="31428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6165720" y="26175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6100920" y="2563920"/>
                <a:ext cx="360360" cy="314280"/>
                <a:chOff x="6100920" y="2563920"/>
                <a:chExt cx="360360" cy="314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100920" y="26812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88120" y="25639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362640" y="2779560"/>
                  <a:ext cx="9864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 flipV="1">
                  <a:off x="6346440" y="26179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165720" y="27637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30" name=""/>
          <p:cNvGrpSpPr/>
          <p:nvPr/>
        </p:nvGrpSpPr>
        <p:grpSpPr>
          <a:xfrm>
            <a:off x="6934320" y="3135240"/>
            <a:ext cx="842760" cy="620640"/>
            <a:chOff x="6934320" y="3135240"/>
            <a:chExt cx="842760" cy="620640"/>
          </a:xfrm>
        </p:grpSpPr>
        <p:sp>
          <p:nvSpPr>
            <p:cNvPr id="531" name=""/>
            <p:cNvSpPr/>
            <p:nvPr/>
          </p:nvSpPr>
          <p:spPr>
            <a:xfrm>
              <a:off x="6934320" y="313524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7162920" y="3249720"/>
              <a:ext cx="360360" cy="314280"/>
              <a:chOff x="7162920" y="3249720"/>
              <a:chExt cx="360360" cy="31428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227720" y="33033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7162920" y="3249720"/>
                <a:ext cx="360360" cy="314280"/>
                <a:chOff x="7162920" y="3249720"/>
                <a:chExt cx="360360" cy="314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162920" y="33670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50120" y="32497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424640" y="3465360"/>
                  <a:ext cx="9864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 flipV="1">
                  <a:off x="7407000" y="33037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227720" y="344952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40" name=""/>
          <p:cNvGrpSpPr/>
          <p:nvPr/>
        </p:nvGrpSpPr>
        <p:grpSpPr>
          <a:xfrm>
            <a:off x="5867280" y="3135240"/>
            <a:ext cx="843120" cy="620640"/>
            <a:chOff x="5867280" y="3135240"/>
            <a:chExt cx="843120" cy="620640"/>
          </a:xfrm>
        </p:grpSpPr>
        <p:sp>
          <p:nvSpPr>
            <p:cNvPr id="541" name=""/>
            <p:cNvSpPr/>
            <p:nvPr/>
          </p:nvSpPr>
          <p:spPr>
            <a:xfrm>
              <a:off x="5867280" y="313524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4440" y="3249720"/>
              <a:ext cx="361800" cy="314280"/>
              <a:chOff x="6094440" y="3249720"/>
              <a:chExt cx="361800" cy="31428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6161040" y="3303360"/>
                <a:ext cx="196920" cy="161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6094440" y="3249720"/>
                <a:ext cx="361800" cy="314280"/>
                <a:chOff x="6094440" y="3249720"/>
                <a:chExt cx="361800" cy="3142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6094440" y="336708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83440" y="324972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57960" y="3465360"/>
                  <a:ext cx="98280" cy="98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6341760" y="330372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61040" y="344952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50" name=""/>
          <p:cNvGrpSpPr/>
          <p:nvPr/>
        </p:nvGrpSpPr>
        <p:grpSpPr>
          <a:xfrm>
            <a:off x="6939000" y="2438280"/>
            <a:ext cx="842760" cy="621000"/>
            <a:chOff x="6939000" y="2438280"/>
            <a:chExt cx="842760" cy="621000"/>
          </a:xfrm>
        </p:grpSpPr>
        <p:sp>
          <p:nvSpPr>
            <p:cNvPr id="551" name=""/>
            <p:cNvSpPr/>
            <p:nvPr/>
          </p:nvSpPr>
          <p:spPr>
            <a:xfrm>
              <a:off x="6939000" y="24382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7167600" y="2552760"/>
              <a:ext cx="360360" cy="314280"/>
              <a:chOff x="7167600" y="2552760"/>
              <a:chExt cx="360360" cy="31428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7232760" y="2604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7167600" y="2552760"/>
                <a:ext cx="360360" cy="314280"/>
                <a:chOff x="7167600" y="2552760"/>
                <a:chExt cx="360360" cy="314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167600" y="2670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354800" y="2552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29680" y="2768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flipV="1">
                  <a:off x="7411680" y="26067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232760" y="275256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560" name=""/>
          <p:cNvSpPr/>
          <p:nvPr/>
        </p:nvSpPr>
        <p:spPr>
          <a:xfrm>
            <a:off x="5226120" y="4800600"/>
            <a:ext cx="3452760" cy="82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clipse Open Source Project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flexible and extensible technology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Gill Sans MT"/>
              </a:rPr>
              <a:t>limited worked done on ‘productization’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872320" y="3809880"/>
            <a:ext cx="842760" cy="621000"/>
            <a:chOff x="5872320" y="3809880"/>
            <a:chExt cx="842760" cy="621000"/>
          </a:xfrm>
        </p:grpSpPr>
        <p:sp>
          <p:nvSpPr>
            <p:cNvPr id="562" name=""/>
            <p:cNvSpPr/>
            <p:nvPr/>
          </p:nvSpPr>
          <p:spPr>
            <a:xfrm>
              <a:off x="5872320" y="38098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100920" y="3924360"/>
              <a:ext cx="360360" cy="314280"/>
              <a:chOff x="6100920" y="3924360"/>
              <a:chExt cx="360360" cy="31428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6165720" y="39762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6100920" y="3924360"/>
                <a:ext cx="360360" cy="314280"/>
                <a:chOff x="6100920" y="3924360"/>
                <a:chExt cx="360360" cy="3142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6100920" y="40417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288120" y="39243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362640" y="414036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 flipV="1">
                  <a:off x="6346440" y="39783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165720" y="412416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71" name=""/>
          <p:cNvGrpSpPr/>
          <p:nvPr/>
        </p:nvGrpSpPr>
        <p:grpSpPr>
          <a:xfrm>
            <a:off x="6939000" y="3809880"/>
            <a:ext cx="842760" cy="621000"/>
            <a:chOff x="6939000" y="3809880"/>
            <a:chExt cx="842760" cy="621000"/>
          </a:xfrm>
        </p:grpSpPr>
        <p:sp>
          <p:nvSpPr>
            <p:cNvPr id="572" name=""/>
            <p:cNvSpPr/>
            <p:nvPr/>
          </p:nvSpPr>
          <p:spPr>
            <a:xfrm>
              <a:off x="6939000" y="380988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167600" y="3924360"/>
              <a:ext cx="360360" cy="314280"/>
              <a:chOff x="7167600" y="3924360"/>
              <a:chExt cx="360360" cy="31428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7232760" y="39762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7167600" y="3924360"/>
                <a:ext cx="360360" cy="314280"/>
                <a:chOff x="7167600" y="3924360"/>
                <a:chExt cx="360360" cy="3142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167600" y="40417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54800" y="39243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429680" y="41403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H="1" flipV="1">
                  <a:off x="7411680" y="39783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32760" y="4124160"/>
                  <a:ext cx="2617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124080" y="3505320"/>
            <a:ext cx="35053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Future Modeling Platform and Tool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200400" y="3581280"/>
            <a:ext cx="843120" cy="621000"/>
            <a:chOff x="3200400" y="3581280"/>
            <a:chExt cx="843120" cy="621000"/>
          </a:xfrm>
        </p:grpSpPr>
        <p:sp>
          <p:nvSpPr>
            <p:cNvPr id="586" name=""/>
            <p:cNvSpPr/>
            <p:nvPr/>
          </p:nvSpPr>
          <p:spPr>
            <a:xfrm>
              <a:off x="3200400" y="358128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3429000" y="3695760"/>
              <a:ext cx="360360" cy="314280"/>
              <a:chOff x="3429000" y="3695760"/>
              <a:chExt cx="360360" cy="31428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3494160" y="3747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3429000" y="3695760"/>
                <a:ext cx="360360" cy="314280"/>
                <a:chOff x="3429000" y="3695760"/>
                <a:chExt cx="360360" cy="3142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3429000" y="3813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616200" y="3695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691080" y="3911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 flipV="1">
                  <a:off x="3675240" y="3749760"/>
                  <a:ext cx="8064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94160" y="389556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595" name=""/>
          <p:cNvGrpSpPr/>
          <p:nvPr/>
        </p:nvGrpSpPr>
        <p:grpSpPr>
          <a:xfrm>
            <a:off x="5715000" y="4191120"/>
            <a:ext cx="843120" cy="620640"/>
            <a:chOff x="5715000" y="4191120"/>
            <a:chExt cx="843120" cy="620640"/>
          </a:xfrm>
        </p:grpSpPr>
        <p:sp>
          <p:nvSpPr>
            <p:cNvPr id="596" name=""/>
            <p:cNvSpPr/>
            <p:nvPr/>
          </p:nvSpPr>
          <p:spPr>
            <a:xfrm>
              <a:off x="571500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943600" y="4305240"/>
              <a:ext cx="360360" cy="314280"/>
              <a:chOff x="5943600" y="4305240"/>
              <a:chExt cx="360360" cy="31428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600876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5943600" y="4305240"/>
                <a:ext cx="360360" cy="314280"/>
                <a:chOff x="5943600" y="4305240"/>
                <a:chExt cx="360360" cy="3142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94360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13080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20568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6189840" y="4358880"/>
                  <a:ext cx="8064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00876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05" name=""/>
          <p:cNvGrpSpPr/>
          <p:nvPr/>
        </p:nvGrpSpPr>
        <p:grpSpPr>
          <a:xfrm>
            <a:off x="4876920" y="4191120"/>
            <a:ext cx="842760" cy="620640"/>
            <a:chOff x="4876920" y="4191120"/>
            <a:chExt cx="842760" cy="620640"/>
          </a:xfrm>
        </p:grpSpPr>
        <p:sp>
          <p:nvSpPr>
            <p:cNvPr id="606" name=""/>
            <p:cNvSpPr/>
            <p:nvPr/>
          </p:nvSpPr>
          <p:spPr>
            <a:xfrm>
              <a:off x="4876920" y="4191120"/>
              <a:ext cx="84276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105520" y="4305240"/>
              <a:ext cx="360360" cy="314280"/>
              <a:chOff x="5105520" y="4305240"/>
              <a:chExt cx="360360" cy="314280"/>
            </a:xfrm>
          </p:grpSpPr>
          <p:sp>
            <p:nvSpPr>
              <p:cNvPr id="608" name=""/>
              <p:cNvSpPr/>
              <p:nvPr/>
            </p:nvSpPr>
            <p:spPr>
              <a:xfrm flipV="1">
                <a:off x="517032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5105520" y="4305240"/>
                <a:ext cx="360360" cy="314280"/>
                <a:chOff x="5105520" y="4305240"/>
                <a:chExt cx="360360" cy="3142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10552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29272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67240" y="452124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5349600" y="435888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170320" y="4505400"/>
                  <a:ext cx="26208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4038480" y="3581280"/>
            <a:ext cx="843120" cy="621000"/>
            <a:chOff x="4038480" y="3581280"/>
            <a:chExt cx="843120" cy="621000"/>
          </a:xfrm>
        </p:grpSpPr>
        <p:sp>
          <p:nvSpPr>
            <p:cNvPr id="616" name=""/>
            <p:cNvSpPr/>
            <p:nvPr/>
          </p:nvSpPr>
          <p:spPr>
            <a:xfrm>
              <a:off x="4038480" y="358128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4265640" y="3695760"/>
              <a:ext cx="361800" cy="314280"/>
              <a:chOff x="4265640" y="3695760"/>
              <a:chExt cx="361800" cy="314280"/>
            </a:xfrm>
          </p:grpSpPr>
          <p:sp>
            <p:nvSpPr>
              <p:cNvPr id="618" name=""/>
              <p:cNvSpPr/>
              <p:nvPr/>
            </p:nvSpPr>
            <p:spPr>
              <a:xfrm flipV="1">
                <a:off x="4332240" y="374760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4265640" y="3695760"/>
                <a:ext cx="361800" cy="314280"/>
                <a:chOff x="4265640" y="3695760"/>
                <a:chExt cx="361800" cy="314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4265640" y="381312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454640" y="369576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529160" y="391176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 flipV="1">
                  <a:off x="4512960" y="374976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332240" y="389556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25" name=""/>
          <p:cNvGrpSpPr/>
          <p:nvPr/>
        </p:nvGrpSpPr>
        <p:grpSpPr>
          <a:xfrm>
            <a:off x="3200400" y="4191120"/>
            <a:ext cx="843120" cy="620640"/>
            <a:chOff x="3200400" y="4191120"/>
            <a:chExt cx="843120" cy="620640"/>
          </a:xfrm>
        </p:grpSpPr>
        <p:sp>
          <p:nvSpPr>
            <p:cNvPr id="626" name=""/>
            <p:cNvSpPr/>
            <p:nvPr/>
          </p:nvSpPr>
          <p:spPr>
            <a:xfrm>
              <a:off x="320040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429000" y="4305240"/>
              <a:ext cx="360360" cy="314280"/>
              <a:chOff x="3429000" y="4305240"/>
              <a:chExt cx="360360" cy="314280"/>
            </a:xfrm>
          </p:grpSpPr>
          <p:sp>
            <p:nvSpPr>
              <p:cNvPr id="628" name=""/>
              <p:cNvSpPr/>
              <p:nvPr/>
            </p:nvSpPr>
            <p:spPr>
              <a:xfrm flipV="1">
                <a:off x="349416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3429000" y="4305240"/>
                <a:ext cx="360360" cy="314280"/>
                <a:chOff x="3429000" y="4305240"/>
                <a:chExt cx="360360" cy="3142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42900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61620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69108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3675240" y="4358880"/>
                  <a:ext cx="8064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49416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35" name=""/>
          <p:cNvGrpSpPr/>
          <p:nvPr/>
        </p:nvGrpSpPr>
        <p:grpSpPr>
          <a:xfrm>
            <a:off x="4038480" y="4191120"/>
            <a:ext cx="843120" cy="620640"/>
            <a:chOff x="4038480" y="4191120"/>
            <a:chExt cx="843120" cy="620640"/>
          </a:xfrm>
        </p:grpSpPr>
        <p:sp>
          <p:nvSpPr>
            <p:cNvPr id="636" name=""/>
            <p:cNvSpPr/>
            <p:nvPr/>
          </p:nvSpPr>
          <p:spPr>
            <a:xfrm>
              <a:off x="4038480" y="4191120"/>
              <a:ext cx="843120" cy="62064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265640" y="4305240"/>
              <a:ext cx="361800" cy="314280"/>
              <a:chOff x="4265640" y="4305240"/>
              <a:chExt cx="361800" cy="314280"/>
            </a:xfrm>
          </p:grpSpPr>
          <p:sp>
            <p:nvSpPr>
              <p:cNvPr id="638" name=""/>
              <p:cNvSpPr/>
              <p:nvPr/>
            </p:nvSpPr>
            <p:spPr>
              <a:xfrm flipV="1">
                <a:off x="4332240" y="4359240"/>
                <a:ext cx="196920" cy="16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4265640" y="4305240"/>
                <a:ext cx="361800" cy="314280"/>
                <a:chOff x="4265640" y="4305240"/>
                <a:chExt cx="361800" cy="3142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265640" y="4422600"/>
                  <a:ext cx="163440" cy="163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454640" y="430524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529160" y="452124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4512960" y="4358880"/>
                  <a:ext cx="81000" cy="227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332240" y="4505400"/>
                  <a:ext cx="26352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45" name=""/>
          <p:cNvGrpSpPr/>
          <p:nvPr/>
        </p:nvGrpSpPr>
        <p:grpSpPr>
          <a:xfrm>
            <a:off x="5715000" y="3570120"/>
            <a:ext cx="843120" cy="621000"/>
            <a:chOff x="5715000" y="3570120"/>
            <a:chExt cx="843120" cy="621000"/>
          </a:xfrm>
        </p:grpSpPr>
        <p:sp>
          <p:nvSpPr>
            <p:cNvPr id="646" name=""/>
            <p:cNvSpPr/>
            <p:nvPr/>
          </p:nvSpPr>
          <p:spPr>
            <a:xfrm>
              <a:off x="5715000" y="3570120"/>
              <a:ext cx="84312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943600" y="3684600"/>
              <a:ext cx="360360" cy="314280"/>
              <a:chOff x="5943600" y="3684600"/>
              <a:chExt cx="360360" cy="314280"/>
            </a:xfrm>
          </p:grpSpPr>
          <p:sp>
            <p:nvSpPr>
              <p:cNvPr id="648" name=""/>
              <p:cNvSpPr/>
              <p:nvPr/>
            </p:nvSpPr>
            <p:spPr>
              <a:xfrm flipV="1">
                <a:off x="6008760" y="373644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3600" y="3684600"/>
                <a:ext cx="360360" cy="314280"/>
                <a:chOff x="5943600" y="3684600"/>
                <a:chExt cx="360360" cy="3142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5943600" y="380196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130800" y="368460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05680" y="3900600"/>
                  <a:ext cx="9828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6189840" y="3738600"/>
                  <a:ext cx="8064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008760" y="3884760"/>
                  <a:ext cx="263520" cy="6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grpSp>
        <p:nvGrpSpPr>
          <p:cNvPr id="655" name=""/>
          <p:cNvGrpSpPr/>
          <p:nvPr/>
        </p:nvGrpSpPr>
        <p:grpSpPr>
          <a:xfrm>
            <a:off x="4876920" y="3570120"/>
            <a:ext cx="842760" cy="621000"/>
            <a:chOff x="4876920" y="3570120"/>
            <a:chExt cx="842760" cy="621000"/>
          </a:xfrm>
        </p:grpSpPr>
        <p:sp>
          <p:nvSpPr>
            <p:cNvPr id="656" name=""/>
            <p:cNvSpPr/>
            <p:nvPr/>
          </p:nvSpPr>
          <p:spPr>
            <a:xfrm>
              <a:off x="4876920" y="3570120"/>
              <a:ext cx="842760" cy="621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5105520" y="3684600"/>
              <a:ext cx="360360" cy="314280"/>
              <a:chOff x="5105520" y="3684600"/>
              <a:chExt cx="360360" cy="31428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5170320" y="3736440"/>
                <a:ext cx="196920" cy="16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5105520" y="3684600"/>
                <a:ext cx="360360" cy="314280"/>
                <a:chOff x="5105520" y="3684600"/>
                <a:chExt cx="360360" cy="314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5105520" y="3801960"/>
                  <a:ext cx="163440" cy="163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292720" y="3684600"/>
                  <a:ext cx="139680" cy="139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367240" y="3900600"/>
                  <a:ext cx="98640" cy="982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>
                  <a:off x="5349600" y="3738600"/>
                  <a:ext cx="81000" cy="22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70320" y="3884760"/>
                  <a:ext cx="262080" cy="64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4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Gill Sans MT"/>
                  </a:endParaRPr>
                </a:p>
              </p:txBody>
            </p:sp>
          </p:grpSp>
        </p:grpSp>
      </p:grpSp>
      <p:sp>
        <p:nvSpPr>
          <p:cNvPr id="665" name=""/>
          <p:cNvSpPr/>
          <p:nvPr/>
        </p:nvSpPr>
        <p:spPr>
          <a:xfrm>
            <a:off x="3124080" y="2362320"/>
            <a:ext cx="838440" cy="990360"/>
          </a:xfrm>
          <a:prstGeom prst="rect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2362320"/>
            <a:ext cx="838440" cy="990360"/>
          </a:xfrm>
          <a:prstGeom prst="rect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Vendor B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7" name=""/>
          <p:cNvSpPr/>
          <p:nvPr/>
        </p:nvSpPr>
        <p:spPr>
          <a:xfrm>
            <a:off x="4952880" y="2362320"/>
            <a:ext cx="838440" cy="9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Internal 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/>
          <p:nvPr/>
        </p:nvSpPr>
        <p:spPr>
          <a:xfrm>
            <a:off x="5867280" y="2362320"/>
            <a:ext cx="838440" cy="9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Internal 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3809880"/>
            <a:ext cx="28954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flexible and extensible technology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integrated component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vendor neutral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2438280"/>
            <a:ext cx="28958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Engaged Ecosyste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vendors will be able to provide commercial tool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Gill Sans MT"/>
              </a:rPr>
              <a:t>enterprises can build their own extensions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09600" y="272880"/>
            <a:ext cx="8227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40588b"/>
                </a:solidFill>
                <a:latin typeface="Calibri"/>
                <a:ea typeface="Lucida Sans Unicode"/>
              </a:rPr>
              <a:t>Eclipse Modeling Platform (EMP)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1600200"/>
            <a:ext cx="82281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Requirements for EMP are being set by some of the largest companies using model driven development, including UBS, Ericsson, SWIFT and Alcatel-Luc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EMP will be an industrial quality integrated software platform to enable a complete tool chain of model-centric tools used by organization focused on model driven development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The platform will be based on existing Eclipse modeling technologies but focus on better integration, quality, scalability and usability for modeling professionals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de-CH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EMP will be developed as a collection of open source projects and encouraging a commercial ecosystem of value-add tools and services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0960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Key Requirement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1600200"/>
            <a:ext cx="821844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Version Management (Life-cycle Support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repository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erging, change analysis, traceability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Flexible Content Suppor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Domain Specific Model, including DSL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Standards: UML, BPMN, SYSML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2M Transformation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668160" indent="-33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Model Audi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6848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812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40588b"/>
                </a:solidFill>
                <a:latin typeface="Gill Sans MT"/>
                <a:ea typeface="Lucida Sans Unicode"/>
              </a:rPr>
              <a:t>Support for review cycles and approval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09600" y="274680"/>
            <a:ext cx="8218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Proposed Architectur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6356520"/>
            <a:ext cx="1031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"/>
          <p:cNvSpPr/>
          <p:nvPr/>
        </p:nvSpPr>
        <p:spPr>
          <a:xfrm>
            <a:off x="1643040" y="6356520"/>
            <a:ext cx="5846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Times New Roman"/>
                <a:ea typeface="Lucida Sans Unicode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209680" y="1390680"/>
            <a:ext cx="5243760" cy="393048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3598920" y="5697360"/>
            <a:ext cx="2519280" cy="5032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b6b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8200" indent="-268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268200"/>
                <a:tab algn="l" pos="725400"/>
                <a:tab algn="l" pos="1182600"/>
                <a:tab algn="l" pos="1639800"/>
                <a:tab algn="l" pos="2097000"/>
                <a:tab algn="l" pos="2554200"/>
                <a:tab algn="l" pos="3011400"/>
                <a:tab algn="l" pos="3468600"/>
                <a:tab algn="l" pos="3925800"/>
                <a:tab algn="l" pos="4383000"/>
                <a:tab algn="l" pos="4840200"/>
                <a:tab algn="l" pos="5297400"/>
                <a:tab algn="l" pos="5754600"/>
                <a:tab algn="l" pos="6211800"/>
                <a:tab algn="l" pos="6669000"/>
                <a:tab algn="l" pos="7126200"/>
                <a:tab algn="l" pos="7583400"/>
                <a:tab algn="l" pos="8040600"/>
                <a:tab algn="l" pos="8497800"/>
                <a:tab algn="l" pos="8955000"/>
                <a:tab algn="l" pos="9412200"/>
                <a:tab algn="l" pos="9601200"/>
                <a:tab algn="l" pos="10058400"/>
                <a:tab algn="l" pos="10515600"/>
              </a:tabLst>
            </a:pPr>
            <a:r>
              <a:rPr b="1" lang="de-DE" sz="800" spc="-1" strike="noStrike">
                <a:solidFill>
                  <a:srgbClr val="ffffff"/>
                </a:solidFill>
                <a:latin typeface="Gill Sans MT"/>
              </a:rPr>
              <a:t>Service-driven</a:t>
            </a: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685800" y="457200"/>
            <a:ext cx="640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Collaborate for Business Agi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3" name=""/>
          <p:cNvSpPr/>
          <p:nvPr/>
        </p:nvSpPr>
        <p:spPr>
          <a:xfrm>
            <a:off x="826920" y="2852640"/>
            <a:ext cx="59547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622680"/>
            <a:ext cx="79246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Eclipse Modeling Platform will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Better meet user requirements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due to collaborate nature and flexible architectu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Reduce implementation and maintenance cost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by sharing between organization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1800" spc="-1" strike="noStrike">
                <a:solidFill>
                  <a:srgbClr val="40588b"/>
                </a:solidFill>
                <a:latin typeface="Gill Sans MT"/>
              </a:rPr>
              <a:t>- Deliver an open platform </a:t>
            </a:r>
            <a:r>
              <a:rPr b="0" lang="de-CH" sz="1800" spc="-1" strike="noStrike">
                <a:solidFill>
                  <a:srgbClr val="40588b"/>
                </a:solidFill>
                <a:latin typeface="Gill Sans MT"/>
              </a:rPr>
              <a:t>that can be used and extended by customers and partne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743200" y="1751040"/>
            <a:ext cx="3197160" cy="1447920"/>
            <a:chOff x="2743200" y="1751040"/>
            <a:chExt cx="3197160" cy="1447920"/>
          </a:xfrm>
        </p:grpSpPr>
        <p:sp>
          <p:nvSpPr>
            <p:cNvPr id="686" name=""/>
            <p:cNvSpPr/>
            <p:nvPr/>
          </p:nvSpPr>
          <p:spPr>
            <a:xfrm>
              <a:off x="2743200" y="17510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43200" y="24368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17920" y="1751040"/>
              <a:ext cx="1522440" cy="5335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17920" y="2436840"/>
              <a:ext cx="1522440" cy="76212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676600" y="1890720"/>
            <a:ext cx="162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OUTSOURCING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1" name=""/>
          <p:cNvSpPr/>
          <p:nvPr/>
        </p:nvSpPr>
        <p:spPr>
          <a:xfrm>
            <a:off x="4457880" y="18907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-HOU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"/>
          <p:cNvSpPr/>
          <p:nvPr/>
        </p:nvSpPr>
        <p:spPr>
          <a:xfrm>
            <a:off x="2781360" y="25891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T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"/>
          <p:cNvSpPr/>
          <p:nvPr/>
        </p:nvSpPr>
        <p:spPr>
          <a:xfrm>
            <a:off x="4633920" y="2370240"/>
            <a:ext cx="1143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ECLIPSE Modeling Platform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6058080" y="1643040"/>
            <a:ext cx="328320" cy="14349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2347920" y="1643040"/>
            <a:ext cx="328680" cy="14349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357200" y="1751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/>
          <p:nvPr/>
        </p:nvSpPr>
        <p:spPr>
          <a:xfrm>
            <a:off x="6515280" y="30798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gilit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"/>
          <p:cNvSpPr/>
          <p:nvPr/>
        </p:nvSpPr>
        <p:spPr>
          <a:xfrm>
            <a:off x="1109520" y="160020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Gill Sans MT"/>
              </a:rPr>
              <a:t>The Eclipse Modeling Platform Initiat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9" name=""/>
          <p:cNvSpPr/>
          <p:nvPr/>
        </p:nvSpPr>
        <p:spPr>
          <a:xfrm>
            <a:off x="722160" y="29066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Gill Sans MT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This is Eclips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471680"/>
            <a:ext cx="73422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Launched in 2001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Initial release of the Eclipse technology platform (Platform, JDT,PDT)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Founding consortium board comprised Borland, IBM, Red Hat……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Eclipse Foundation formed in 2004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Independent not-for-profit organization formed in 2004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Definition of bylaws, membership model, initial IP proces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Gill Sans MT"/>
              </a:rPr>
              <a:t>Eclipse Foundation today, 2010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Members include IBM, Oracle, SAP, Nokia, Motorola, Cisco, etc.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lvl="1" marL="612720" indent="-2793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165 members, (22 strategic members, 3 enterprise member), 940+ committer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71800" y="1857240"/>
            <a:ext cx="641160" cy="4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29040" y="1785960"/>
            <a:ext cx="571680" cy="66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29040" y="200016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43160" y="535788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857680" y="557208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071720" y="114300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6500880" y="3071880"/>
            <a:ext cx="571320" cy="156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929040" y="3571920"/>
            <a:ext cx="571680" cy="347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7858080" y="5786280"/>
            <a:ext cx="571680" cy="357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143680" y="5857920"/>
            <a:ext cx="5713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4929120" y="5429160"/>
            <a:ext cx="5716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5643720" y="542916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3286080" y="3357720"/>
            <a:ext cx="571680" cy="185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3357720" y="1857240"/>
            <a:ext cx="57132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071960" y="435780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6286680" y="3929040"/>
            <a:ext cx="571320" cy="114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3071880" y="100008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4572000" y="164304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3500280" y="2357280"/>
            <a:ext cx="571680" cy="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7715160" y="1143000"/>
            <a:ext cx="571680" cy="176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>
            <a:off x="8358120" y="4286160"/>
            <a:ext cx="571680" cy="309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2"/>
          <a:stretch/>
        </p:blipFill>
        <p:spPr>
          <a:xfrm>
            <a:off x="142920" y="4429080"/>
            <a:ext cx="571320" cy="2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3"/>
          <a:stretch/>
        </p:blipFill>
        <p:spPr>
          <a:xfrm>
            <a:off x="3929040" y="5929200"/>
            <a:ext cx="571680" cy="219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4"/>
          <a:stretch/>
        </p:blipFill>
        <p:spPr>
          <a:xfrm>
            <a:off x="7429680" y="2000160"/>
            <a:ext cx="571320" cy="176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5"/>
          <a:stretch/>
        </p:blipFill>
        <p:spPr>
          <a:xfrm>
            <a:off x="2857680" y="28584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6"/>
          <a:stretch/>
        </p:blipFill>
        <p:spPr>
          <a:xfrm>
            <a:off x="857160" y="2928960"/>
            <a:ext cx="571680" cy="233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7"/>
          <a:stretch/>
        </p:blipFill>
        <p:spPr>
          <a:xfrm>
            <a:off x="1071720" y="1643040"/>
            <a:ext cx="571320" cy="1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8"/>
          <a:stretch/>
        </p:blipFill>
        <p:spPr>
          <a:xfrm>
            <a:off x="3714840" y="714240"/>
            <a:ext cx="571320" cy="123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9"/>
          <a:stretch/>
        </p:blipFill>
        <p:spPr>
          <a:xfrm>
            <a:off x="6572160" y="21420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0"/>
          <a:stretch/>
        </p:blipFill>
        <p:spPr>
          <a:xfrm>
            <a:off x="214200" y="228600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1"/>
          <a:stretch/>
        </p:blipFill>
        <p:spPr>
          <a:xfrm>
            <a:off x="4786200" y="2071800"/>
            <a:ext cx="571680" cy="347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2"/>
          <a:stretch/>
        </p:blipFill>
        <p:spPr>
          <a:xfrm>
            <a:off x="4143240" y="2428920"/>
            <a:ext cx="571680" cy="48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3"/>
          <a:stretch/>
        </p:blipFill>
        <p:spPr>
          <a:xfrm>
            <a:off x="8429760" y="28584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4"/>
          <a:stretch/>
        </p:blipFill>
        <p:spPr>
          <a:xfrm>
            <a:off x="4071960" y="5214960"/>
            <a:ext cx="571320" cy="176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5"/>
          <a:stretch/>
        </p:blipFill>
        <p:spPr>
          <a:xfrm>
            <a:off x="6357960" y="478620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6"/>
          <a:stretch/>
        </p:blipFill>
        <p:spPr>
          <a:xfrm>
            <a:off x="4929120" y="2428920"/>
            <a:ext cx="571680" cy="25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7"/>
          <a:stretch/>
        </p:blipFill>
        <p:spPr>
          <a:xfrm>
            <a:off x="4000680" y="3000240"/>
            <a:ext cx="571320" cy="14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8"/>
          <a:stretch/>
        </p:blipFill>
        <p:spPr>
          <a:xfrm>
            <a:off x="5143680" y="1857240"/>
            <a:ext cx="571320" cy="1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9"/>
          <a:stretch/>
        </p:blipFill>
        <p:spPr>
          <a:xfrm>
            <a:off x="4071960" y="1500120"/>
            <a:ext cx="571320" cy="76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0"/>
          <a:stretch/>
        </p:blipFill>
        <p:spPr>
          <a:xfrm>
            <a:off x="3214800" y="1643040"/>
            <a:ext cx="57132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1"/>
          <a:stretch/>
        </p:blipFill>
        <p:spPr>
          <a:xfrm>
            <a:off x="5500800" y="214308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2"/>
          <a:stretch/>
        </p:blipFill>
        <p:spPr>
          <a:xfrm>
            <a:off x="5143680" y="1428840"/>
            <a:ext cx="571320" cy="24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3"/>
          <a:stretch/>
        </p:blipFill>
        <p:spPr>
          <a:xfrm>
            <a:off x="3286080" y="2500200"/>
            <a:ext cx="571680" cy="33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4786200" y="2857680"/>
            <a:ext cx="571680" cy="16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8429760" y="3429000"/>
            <a:ext cx="57132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6"/>
          <a:stretch/>
        </p:blipFill>
        <p:spPr>
          <a:xfrm>
            <a:off x="8429760" y="307188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2428920" y="5214960"/>
            <a:ext cx="571320" cy="14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2571840" y="4357800"/>
            <a:ext cx="571320" cy="42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9"/>
          <a:stretch/>
        </p:blipFill>
        <p:spPr>
          <a:xfrm>
            <a:off x="2571840" y="3643200"/>
            <a:ext cx="571320" cy="22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0"/>
          <a:stretch/>
        </p:blipFill>
        <p:spPr>
          <a:xfrm>
            <a:off x="3286080" y="3929040"/>
            <a:ext cx="57168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1"/>
          <a:stretch/>
        </p:blipFill>
        <p:spPr>
          <a:xfrm>
            <a:off x="5715000" y="428616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2"/>
          <a:stretch/>
        </p:blipFill>
        <p:spPr>
          <a:xfrm>
            <a:off x="4786200" y="4071960"/>
            <a:ext cx="571680" cy="27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3"/>
          <a:stretch/>
        </p:blipFill>
        <p:spPr>
          <a:xfrm>
            <a:off x="5000760" y="3071880"/>
            <a:ext cx="5713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4"/>
          <a:stretch/>
        </p:blipFill>
        <p:spPr>
          <a:xfrm>
            <a:off x="4071960" y="3286080"/>
            <a:ext cx="571320" cy="2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5"/>
          <a:stretch/>
        </p:blipFill>
        <p:spPr>
          <a:xfrm>
            <a:off x="2214720" y="128592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6"/>
          <a:stretch/>
        </p:blipFill>
        <p:spPr>
          <a:xfrm>
            <a:off x="2214720" y="314316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7"/>
          <a:stretch/>
        </p:blipFill>
        <p:spPr>
          <a:xfrm>
            <a:off x="6929280" y="1000080"/>
            <a:ext cx="57168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8"/>
          <a:stretch/>
        </p:blipFill>
        <p:spPr>
          <a:xfrm>
            <a:off x="4429080" y="785880"/>
            <a:ext cx="571680" cy="26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9"/>
          <a:stretch/>
        </p:blipFill>
        <p:spPr>
          <a:xfrm>
            <a:off x="6429240" y="5715000"/>
            <a:ext cx="571680" cy="452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0"/>
          <a:stretch/>
        </p:blipFill>
        <p:spPr>
          <a:xfrm>
            <a:off x="8429760" y="1714680"/>
            <a:ext cx="571320" cy="176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1"/>
          <a:stretch/>
        </p:blipFill>
        <p:spPr>
          <a:xfrm>
            <a:off x="1714680" y="2571840"/>
            <a:ext cx="571320" cy="214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2"/>
          <a:stretch/>
        </p:blipFill>
        <p:spPr>
          <a:xfrm>
            <a:off x="5500800" y="3429000"/>
            <a:ext cx="571320" cy="36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3"/>
          <a:stretch/>
        </p:blipFill>
        <p:spPr>
          <a:xfrm>
            <a:off x="1143000" y="67932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4"/>
          <a:stretch/>
        </p:blipFill>
        <p:spPr>
          <a:xfrm>
            <a:off x="2714760" y="1928880"/>
            <a:ext cx="571320" cy="27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5"/>
          <a:stretch/>
        </p:blipFill>
        <p:spPr>
          <a:xfrm>
            <a:off x="1214280" y="4143240"/>
            <a:ext cx="571680" cy="24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6"/>
          <a:stretch/>
        </p:blipFill>
        <p:spPr>
          <a:xfrm>
            <a:off x="2786040" y="6000840"/>
            <a:ext cx="857160" cy="7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7"/>
          <a:stretch/>
        </p:blipFill>
        <p:spPr>
          <a:xfrm>
            <a:off x="857160" y="3929040"/>
            <a:ext cx="571680" cy="166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8"/>
          <a:stretch/>
        </p:blipFill>
        <p:spPr>
          <a:xfrm>
            <a:off x="7572240" y="4714920"/>
            <a:ext cx="571680" cy="30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9"/>
          <a:stretch/>
        </p:blipFill>
        <p:spPr>
          <a:xfrm>
            <a:off x="7715160" y="3786120"/>
            <a:ext cx="571680" cy="257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0"/>
          <a:stretch/>
        </p:blipFill>
        <p:spPr>
          <a:xfrm>
            <a:off x="7072200" y="3286080"/>
            <a:ext cx="571680" cy="157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1"/>
          <a:stretch/>
        </p:blipFill>
        <p:spPr>
          <a:xfrm>
            <a:off x="4572000" y="5857920"/>
            <a:ext cx="571680" cy="8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2"/>
          <a:stretch/>
        </p:blipFill>
        <p:spPr>
          <a:xfrm>
            <a:off x="3286080" y="478620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3"/>
          <a:stretch/>
        </p:blipFill>
        <p:spPr>
          <a:xfrm>
            <a:off x="214200" y="3643200"/>
            <a:ext cx="571680" cy="238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4"/>
          <a:stretch/>
        </p:blipFill>
        <p:spPr>
          <a:xfrm>
            <a:off x="5643720" y="2428920"/>
            <a:ext cx="571320" cy="280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5"/>
          <a:stretch/>
        </p:blipFill>
        <p:spPr>
          <a:xfrm>
            <a:off x="2214720" y="679320"/>
            <a:ext cx="57132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6"/>
          <a:stretch/>
        </p:blipFill>
        <p:spPr>
          <a:xfrm>
            <a:off x="5000760" y="285840"/>
            <a:ext cx="571320" cy="314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7"/>
          <a:stretch/>
        </p:blipFill>
        <p:spPr>
          <a:xfrm>
            <a:off x="4429080" y="1214280"/>
            <a:ext cx="571680" cy="1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8"/>
          <a:stretch/>
        </p:blipFill>
        <p:spPr>
          <a:xfrm>
            <a:off x="5857920" y="1500120"/>
            <a:ext cx="5713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9"/>
          <a:stretch/>
        </p:blipFill>
        <p:spPr>
          <a:xfrm>
            <a:off x="285840" y="1000080"/>
            <a:ext cx="571320" cy="95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0"/>
          <a:stretch/>
        </p:blipFill>
        <p:spPr>
          <a:xfrm>
            <a:off x="3286080" y="4286160"/>
            <a:ext cx="57168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1"/>
          <a:stretch/>
        </p:blipFill>
        <p:spPr>
          <a:xfrm>
            <a:off x="7429680" y="514368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2"/>
          <a:stretch/>
        </p:blipFill>
        <p:spPr>
          <a:xfrm>
            <a:off x="8429760" y="3857760"/>
            <a:ext cx="571320" cy="18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3"/>
          <a:stretch/>
        </p:blipFill>
        <p:spPr>
          <a:xfrm>
            <a:off x="7786800" y="2500200"/>
            <a:ext cx="571320" cy="20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4"/>
          <a:stretch/>
        </p:blipFill>
        <p:spPr>
          <a:xfrm>
            <a:off x="7572240" y="1428840"/>
            <a:ext cx="571680" cy="185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5"/>
          <a:stretch/>
        </p:blipFill>
        <p:spPr>
          <a:xfrm>
            <a:off x="928800" y="2428920"/>
            <a:ext cx="57132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6"/>
          <a:stretch/>
        </p:blipFill>
        <p:spPr>
          <a:xfrm>
            <a:off x="214200" y="1928880"/>
            <a:ext cx="571680" cy="280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7"/>
          <a:stretch/>
        </p:blipFill>
        <p:spPr>
          <a:xfrm>
            <a:off x="142920" y="3000240"/>
            <a:ext cx="571320" cy="109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8"/>
          <a:stretch/>
        </p:blipFill>
        <p:spPr>
          <a:xfrm>
            <a:off x="6572160" y="4214880"/>
            <a:ext cx="571680" cy="16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9"/>
          <a:stretch/>
        </p:blipFill>
        <p:spPr>
          <a:xfrm>
            <a:off x="3071880" y="2857680"/>
            <a:ext cx="571320" cy="290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0"/>
          <a:stretch/>
        </p:blipFill>
        <p:spPr>
          <a:xfrm>
            <a:off x="8572680" y="257184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1"/>
          <a:stretch/>
        </p:blipFill>
        <p:spPr>
          <a:xfrm>
            <a:off x="1714680" y="1071720"/>
            <a:ext cx="571320" cy="156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2"/>
          <a:stretch/>
        </p:blipFill>
        <p:spPr>
          <a:xfrm>
            <a:off x="1571760" y="1857240"/>
            <a:ext cx="571320" cy="24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93"/>
          <a:stretch/>
        </p:blipFill>
        <p:spPr>
          <a:xfrm>
            <a:off x="4786200" y="485784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4"/>
          <a:stretch/>
        </p:blipFill>
        <p:spPr>
          <a:xfrm>
            <a:off x="5715000" y="5000760"/>
            <a:ext cx="571680" cy="21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5"/>
          <a:stretch/>
        </p:blipFill>
        <p:spPr>
          <a:xfrm>
            <a:off x="7000920" y="5643720"/>
            <a:ext cx="571320" cy="185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6"/>
          <a:stretch/>
        </p:blipFill>
        <p:spPr>
          <a:xfrm>
            <a:off x="8215200" y="4714920"/>
            <a:ext cx="57168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7"/>
          <a:stretch/>
        </p:blipFill>
        <p:spPr>
          <a:xfrm>
            <a:off x="1928880" y="392904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8"/>
          <a:stretch/>
        </p:blipFill>
        <p:spPr>
          <a:xfrm>
            <a:off x="4857840" y="4500720"/>
            <a:ext cx="571320" cy="16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9"/>
          <a:stretch/>
        </p:blipFill>
        <p:spPr>
          <a:xfrm>
            <a:off x="4572000" y="3500280"/>
            <a:ext cx="571680" cy="32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00"/>
          <a:stretch/>
        </p:blipFill>
        <p:spPr>
          <a:xfrm>
            <a:off x="6357960" y="2714760"/>
            <a:ext cx="571320" cy="18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1"/>
          <a:stretch/>
        </p:blipFill>
        <p:spPr>
          <a:xfrm>
            <a:off x="6286680" y="1928880"/>
            <a:ext cx="571320" cy="41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2"/>
          <a:stretch/>
        </p:blipFill>
        <p:spPr>
          <a:xfrm>
            <a:off x="5214960" y="114300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3"/>
          <a:stretch/>
        </p:blipFill>
        <p:spPr>
          <a:xfrm>
            <a:off x="3143160" y="128592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4"/>
          <a:stretch/>
        </p:blipFill>
        <p:spPr>
          <a:xfrm>
            <a:off x="3786120" y="1000080"/>
            <a:ext cx="571680" cy="1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5"/>
          <a:stretch/>
        </p:blipFill>
        <p:spPr>
          <a:xfrm>
            <a:off x="6000840" y="1071720"/>
            <a:ext cx="571320" cy="133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6"/>
          <a:stretch/>
        </p:blipFill>
        <p:spPr>
          <a:xfrm>
            <a:off x="5786280" y="5715000"/>
            <a:ext cx="57168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7"/>
          <a:stretch/>
        </p:blipFill>
        <p:spPr>
          <a:xfrm>
            <a:off x="2857680" y="228600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8"/>
          <a:stretch/>
        </p:blipFill>
        <p:spPr>
          <a:xfrm>
            <a:off x="6929280" y="4714920"/>
            <a:ext cx="571680" cy="257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9"/>
          <a:stretch/>
        </p:blipFill>
        <p:spPr>
          <a:xfrm>
            <a:off x="4143240" y="5500800"/>
            <a:ext cx="571680" cy="1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0"/>
          <a:stretch/>
        </p:blipFill>
        <p:spPr>
          <a:xfrm>
            <a:off x="5572080" y="392904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1"/>
          <a:stretch/>
        </p:blipFill>
        <p:spPr>
          <a:xfrm>
            <a:off x="3286080" y="3571920"/>
            <a:ext cx="571680" cy="218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2"/>
          <a:stretch/>
        </p:blipFill>
        <p:spPr>
          <a:xfrm>
            <a:off x="5715000" y="2928960"/>
            <a:ext cx="571680" cy="31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3"/>
          <a:stretch/>
        </p:blipFill>
        <p:spPr>
          <a:xfrm>
            <a:off x="5214960" y="64296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4"/>
          <a:stretch/>
        </p:blipFill>
        <p:spPr>
          <a:xfrm>
            <a:off x="3000240" y="857160"/>
            <a:ext cx="571680" cy="11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5"/>
          <a:stretch/>
        </p:blipFill>
        <p:spPr>
          <a:xfrm>
            <a:off x="6286680" y="3357720"/>
            <a:ext cx="571320" cy="30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6"/>
          <a:stretch/>
        </p:blipFill>
        <p:spPr>
          <a:xfrm>
            <a:off x="7072200" y="2286000"/>
            <a:ext cx="571680" cy="209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7"/>
          <a:stretch/>
        </p:blipFill>
        <p:spPr>
          <a:xfrm>
            <a:off x="6643800" y="1428840"/>
            <a:ext cx="571320" cy="100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8"/>
          <a:stretch/>
        </p:blipFill>
        <p:spPr>
          <a:xfrm>
            <a:off x="2428920" y="1714680"/>
            <a:ext cx="571320" cy="9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9"/>
          <a:stretch/>
        </p:blipFill>
        <p:spPr>
          <a:xfrm>
            <a:off x="2357280" y="2857680"/>
            <a:ext cx="571680" cy="8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0"/>
          <a:stretch/>
        </p:blipFill>
        <p:spPr>
          <a:xfrm>
            <a:off x="2428920" y="928800"/>
            <a:ext cx="571320" cy="309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21"/>
          <a:stretch/>
        </p:blipFill>
        <p:spPr>
          <a:xfrm>
            <a:off x="7143840" y="285768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2"/>
          <a:stretch/>
        </p:blipFill>
        <p:spPr>
          <a:xfrm>
            <a:off x="2643120" y="4071960"/>
            <a:ext cx="571680" cy="142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3"/>
          <a:stretch/>
        </p:blipFill>
        <p:spPr>
          <a:xfrm>
            <a:off x="7072200" y="1785960"/>
            <a:ext cx="571680" cy="123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4"/>
          <a:stretch/>
        </p:blipFill>
        <p:spPr>
          <a:xfrm>
            <a:off x="6929280" y="3857760"/>
            <a:ext cx="571680" cy="214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5"/>
          <a:stretch/>
        </p:blipFill>
        <p:spPr>
          <a:xfrm>
            <a:off x="1928880" y="2214720"/>
            <a:ext cx="571320" cy="214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6"/>
          <a:stretch/>
        </p:blipFill>
        <p:spPr>
          <a:xfrm>
            <a:off x="7786800" y="3071880"/>
            <a:ext cx="571320" cy="585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7"/>
          <a:stretch/>
        </p:blipFill>
        <p:spPr>
          <a:xfrm>
            <a:off x="1357200" y="1428840"/>
            <a:ext cx="571680" cy="114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8"/>
          <a:stretch/>
        </p:blipFill>
        <p:spPr>
          <a:xfrm>
            <a:off x="2143080" y="35712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29"/>
          <a:stretch/>
        </p:blipFill>
        <p:spPr>
          <a:xfrm>
            <a:off x="285840" y="2643120"/>
            <a:ext cx="571320" cy="138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30"/>
          <a:stretch/>
        </p:blipFill>
        <p:spPr>
          <a:xfrm>
            <a:off x="5357880" y="4786200"/>
            <a:ext cx="571320" cy="18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31"/>
          <a:stretch/>
        </p:blipFill>
        <p:spPr>
          <a:xfrm>
            <a:off x="3571920" y="5643720"/>
            <a:ext cx="571320" cy="1951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32"/>
          <a:stretch/>
        </p:blipFill>
        <p:spPr>
          <a:xfrm>
            <a:off x="6357960" y="5357880"/>
            <a:ext cx="571320" cy="280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3"/>
          <a:stretch/>
        </p:blipFill>
        <p:spPr>
          <a:xfrm>
            <a:off x="928800" y="207180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4"/>
          <a:stretch/>
        </p:blipFill>
        <p:spPr>
          <a:xfrm>
            <a:off x="2428920" y="3357720"/>
            <a:ext cx="571320" cy="114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5"/>
          <a:stretch/>
        </p:blipFill>
        <p:spPr>
          <a:xfrm>
            <a:off x="1500120" y="857160"/>
            <a:ext cx="571680" cy="9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36"/>
          <a:stretch/>
        </p:blipFill>
        <p:spPr>
          <a:xfrm>
            <a:off x="7358040" y="4214880"/>
            <a:ext cx="571680" cy="218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7"/>
          <a:stretch/>
        </p:blipFill>
        <p:spPr>
          <a:xfrm>
            <a:off x="428760" y="1357200"/>
            <a:ext cx="571320" cy="31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38"/>
          <a:stretch/>
        </p:blipFill>
        <p:spPr>
          <a:xfrm>
            <a:off x="8143920" y="2071800"/>
            <a:ext cx="571320" cy="166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29160" y="12859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39"/>
          <a:stretch/>
        </p:blipFill>
        <p:spPr>
          <a:xfrm>
            <a:off x="4000680" y="4714920"/>
            <a:ext cx="571320" cy="218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0"/>
          <a:stretch/>
        </p:blipFill>
        <p:spPr>
          <a:xfrm>
            <a:off x="2500200" y="4929120"/>
            <a:ext cx="571680" cy="195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41"/>
          <a:stretch/>
        </p:blipFill>
        <p:spPr>
          <a:xfrm>
            <a:off x="5786280" y="4572000"/>
            <a:ext cx="571680" cy="10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2"/>
          <a:stretch/>
        </p:blipFill>
        <p:spPr>
          <a:xfrm>
            <a:off x="1500120" y="2928960"/>
            <a:ext cx="571680" cy="490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3"/>
          <a:stretch/>
        </p:blipFill>
        <p:spPr>
          <a:xfrm>
            <a:off x="3500280" y="357120"/>
            <a:ext cx="57168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44"/>
          <a:stretch/>
        </p:blipFill>
        <p:spPr>
          <a:xfrm>
            <a:off x="4143240" y="357120"/>
            <a:ext cx="571680" cy="200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5"/>
          <a:stretch/>
        </p:blipFill>
        <p:spPr>
          <a:xfrm>
            <a:off x="5786280" y="357120"/>
            <a:ext cx="571680" cy="200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6"/>
          <a:stretch/>
        </p:blipFill>
        <p:spPr>
          <a:xfrm>
            <a:off x="857160" y="357120"/>
            <a:ext cx="571680" cy="128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7"/>
          <a:stretch/>
        </p:blipFill>
        <p:spPr>
          <a:xfrm>
            <a:off x="6286680" y="642960"/>
            <a:ext cx="571320" cy="237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8"/>
          <a:stretch/>
        </p:blipFill>
        <p:spPr>
          <a:xfrm>
            <a:off x="7572240" y="5572080"/>
            <a:ext cx="571680" cy="181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49"/>
          <a:stretch/>
        </p:blipFill>
        <p:spPr>
          <a:xfrm>
            <a:off x="571680" y="3286080"/>
            <a:ext cx="571320" cy="2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50"/>
          <a:stretch/>
        </p:blipFill>
        <p:spPr>
          <a:xfrm>
            <a:off x="8358120" y="114300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51"/>
          <a:stretch/>
        </p:blipFill>
        <p:spPr>
          <a:xfrm>
            <a:off x="7143840" y="857160"/>
            <a:ext cx="571320" cy="119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2"/>
          <a:stretch/>
        </p:blipFill>
        <p:spPr>
          <a:xfrm>
            <a:off x="7358040" y="214200"/>
            <a:ext cx="571680" cy="362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53"/>
          <a:stretch/>
        </p:blipFill>
        <p:spPr>
          <a:xfrm>
            <a:off x="4071960" y="4071960"/>
            <a:ext cx="571320" cy="181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4"/>
          <a:stretch/>
        </p:blipFill>
        <p:spPr>
          <a:xfrm>
            <a:off x="8286840" y="5286240"/>
            <a:ext cx="571320" cy="86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55"/>
          <a:stretch/>
        </p:blipFill>
        <p:spPr>
          <a:xfrm>
            <a:off x="285840" y="679320"/>
            <a:ext cx="571320" cy="285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14720" y="1000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56"/>
          <a:stretch/>
        </p:blipFill>
        <p:spPr>
          <a:xfrm>
            <a:off x="142920" y="214200"/>
            <a:ext cx="571320" cy="176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7"/>
          <a:stretch/>
        </p:blipFill>
        <p:spPr>
          <a:xfrm>
            <a:off x="1214280" y="3643200"/>
            <a:ext cx="571680" cy="10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58"/>
          <a:stretch/>
        </p:blipFill>
        <p:spPr>
          <a:xfrm>
            <a:off x="1714680" y="4357800"/>
            <a:ext cx="571320" cy="285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59"/>
          <a:stretch/>
        </p:blipFill>
        <p:spPr>
          <a:xfrm>
            <a:off x="2214720" y="5500800"/>
            <a:ext cx="571320" cy="114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60"/>
          <a:stretch/>
        </p:blipFill>
        <p:spPr>
          <a:xfrm>
            <a:off x="2000160" y="5857920"/>
            <a:ext cx="571680" cy="11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1"/>
          <a:stretch/>
        </p:blipFill>
        <p:spPr>
          <a:xfrm>
            <a:off x="8429760" y="5500800"/>
            <a:ext cx="57132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62"/>
          <a:stretch/>
        </p:blipFill>
        <p:spPr>
          <a:xfrm>
            <a:off x="1714680" y="4929120"/>
            <a:ext cx="571320" cy="171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63"/>
          <a:stretch/>
        </p:blipFill>
        <p:spPr>
          <a:xfrm>
            <a:off x="1428840" y="5500800"/>
            <a:ext cx="571320" cy="16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64"/>
          <a:stretch/>
        </p:blipFill>
        <p:spPr>
          <a:xfrm>
            <a:off x="142920" y="4143240"/>
            <a:ext cx="571320" cy="128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65"/>
          <a:stretch/>
        </p:blipFill>
        <p:spPr>
          <a:xfrm>
            <a:off x="785880" y="4429080"/>
            <a:ext cx="571320" cy="28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66"/>
          <a:stretch/>
        </p:blipFill>
        <p:spPr>
          <a:xfrm>
            <a:off x="928800" y="5857920"/>
            <a:ext cx="571320" cy="200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67"/>
          <a:stretch/>
        </p:blipFill>
        <p:spPr>
          <a:xfrm>
            <a:off x="928800" y="5000760"/>
            <a:ext cx="571320" cy="137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68"/>
          <a:stretch/>
        </p:blipFill>
        <p:spPr>
          <a:xfrm>
            <a:off x="214200" y="4857840"/>
            <a:ext cx="57168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69"/>
          <a:stretch/>
        </p:blipFill>
        <p:spPr>
          <a:xfrm>
            <a:off x="571680" y="5500800"/>
            <a:ext cx="571320" cy="11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70"/>
          <a:stretch/>
        </p:blipFill>
        <p:spPr>
          <a:xfrm>
            <a:off x="142920" y="5786280"/>
            <a:ext cx="571320" cy="300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71"/>
          <a:stretch/>
        </p:blipFill>
        <p:spPr>
          <a:xfrm>
            <a:off x="1857240" y="3571920"/>
            <a:ext cx="606600" cy="22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2"/>
          <a:stretch/>
        </p:blipFill>
        <p:spPr>
          <a:xfrm>
            <a:off x="2357280" y="2500200"/>
            <a:ext cx="81468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73"/>
          <a:stretch/>
        </p:blipFill>
        <p:spPr>
          <a:xfrm>
            <a:off x="1428840" y="285840"/>
            <a:ext cx="544320" cy="147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65240"/>
            <a:ext cx="434340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Members of Eclips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CH" sz="2800" spc="-1" strike="noStrike">
                <a:solidFill>
                  <a:srgbClr val="40588b"/>
                </a:solidFill>
                <a:latin typeface="Gill Sans MT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484280"/>
            <a:ext cx="73486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Who We Ar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40588b"/>
                </a:solidFill>
                <a:latin typeface="Gill Sans MT"/>
              </a:rPr>
              <a:t>The Industry Collaboration Mod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Gill Sans MT"/>
              </a:rPr>
              <a:t>The Eclipse Modeling Platform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4000" spc="-1" strike="noStrike">
                <a:solidFill>
                  <a:srgbClr val="17375e"/>
                </a:solidFill>
                <a:latin typeface="Calibri"/>
                <a:ea typeface="Lucida Sans Unicode"/>
              </a:rPr>
              <a:t>Open Innovation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17375e"/>
                </a:solidFill>
                <a:latin typeface="Gill Sans MT"/>
              </a:rPr>
              <a:t>28 April 201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"/>
          <p:cNvSpPr/>
          <p:nvPr/>
        </p:nvSpPr>
        <p:spPr>
          <a:xfrm>
            <a:off x="164304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100" spc="-1" strike="noStrike">
                <a:solidFill>
                  <a:srgbClr val="17375e"/>
                </a:solidFill>
                <a:latin typeface="Gill Sans MT"/>
              </a:rPr>
              <a:t>Copyright (c) 2010, Eclipse Foundation, Inc. Made available under the Eclipse Public License 1.0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4" name=""/>
          <p:cNvSpPr/>
          <p:nvPr/>
        </p:nvSpPr>
        <p:spPr>
          <a:xfrm>
            <a:off x="7643880" y="6356520"/>
            <a:ext cx="104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96727-2321-4F4B-8D45-FEE3FA225DFF}" type="slidenum">
              <a:rPr b="0" lang="en-CA" sz="1100" spc="-1" strike="noStrike">
                <a:solidFill>
                  <a:srgbClr val="17375e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06840" y="2214720"/>
            <a:ext cx="580068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Open Innovation is a paradigm that assumes that firms can and should use external ideas as well as well as internal ideas…. The Open Innovation paradigm treats R&amp;D as an open system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ill Sans MT"/>
              </a:rPr>
              <a:t>Open Innovation: Researching a New Paradigm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15210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332000" y="3951360"/>
            <a:ext cx="1514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Engaging With Open Sou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4495680"/>
            <a:ext cx="1073160" cy="1073160"/>
          </a:xfrm>
          <a:prstGeom prst="ellipse">
            <a:avLst/>
          </a:prstGeom>
          <a:solidFill>
            <a:srgbClr val="332d73"/>
          </a:solidFill>
          <a:ln w="50760">
            <a:solidFill>
              <a:srgbClr val="f5f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4724280"/>
            <a:ext cx="121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ill Sans MT"/>
              </a:rPr>
              <a:t>DENY</a:t>
            </a: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1657080" y="1353600"/>
            <a:ext cx="44280" cy="3537000"/>
          </a:xfrm>
          <a:prstGeom prst="line">
            <a:avLst/>
          </a:prstGeom>
          <a:ln w="57240">
            <a:solidFill>
              <a:srgbClr val="f15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875120"/>
            <a:ext cx="6476760" cy="1800"/>
          </a:xfrm>
          <a:prstGeom prst="line">
            <a:avLst/>
          </a:prstGeom>
          <a:ln w="57240">
            <a:solidFill>
              <a:srgbClr val="f159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4" name=""/>
          <p:cNvSpPr/>
          <p:nvPr/>
        </p:nvSpPr>
        <p:spPr>
          <a:xfrm>
            <a:off x="212760" y="1822680"/>
            <a:ext cx="1676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VALUE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APPROPRIATED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"/>
          <p:cNvSpPr/>
          <p:nvPr/>
        </p:nvSpPr>
        <p:spPr>
          <a:xfrm>
            <a:off x="1365120" y="5713920"/>
            <a:ext cx="1676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2d73"/>
                </a:solidFill>
                <a:latin typeface="Gill Sans MT"/>
              </a:rPr>
              <a:t>SINGLE PROJECT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5713920"/>
            <a:ext cx="213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2d73"/>
                </a:solidFill>
                <a:latin typeface="Gill Sans MT"/>
              </a:rPr>
              <a:t>MULTIPLE PROJECT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4764600"/>
            <a:ext cx="61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TIME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568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SCOP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5276880"/>
            <a:ext cx="3124080" cy="1440"/>
          </a:xfrm>
          <a:prstGeom prst="line">
            <a:avLst/>
          </a:prstGeom>
          <a:ln w="57240">
            <a:solidFill>
              <a:srgbClr val="d91a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69240"/>
            <a:ext cx="1514520" cy="217080"/>
          </a:xfrm>
          <a:prstGeom prst="rect">
            <a:avLst/>
          </a:prstGeom>
          <a:solidFill>
            <a:srgbClr val="ffffff"/>
          </a:solidFill>
          <a:ln w="64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BUSINESS DRIVEN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"/>
          <p:cNvSpPr/>
          <p:nvPr/>
        </p:nvSpPr>
        <p:spPr>
          <a:xfrm>
            <a:off x="1620720" y="5276880"/>
            <a:ext cx="3173400" cy="1440"/>
          </a:xfrm>
          <a:prstGeom prst="line">
            <a:avLst/>
          </a:prstGeom>
          <a:ln w="57240">
            <a:solidFill>
              <a:srgbClr val="d91a5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2" name=""/>
          <p:cNvSpPr/>
          <p:nvPr/>
        </p:nvSpPr>
        <p:spPr>
          <a:xfrm>
            <a:off x="2600280" y="5169240"/>
            <a:ext cx="1576440" cy="217080"/>
          </a:xfrm>
          <a:prstGeom prst="rect">
            <a:avLst/>
          </a:prstGeom>
          <a:solidFill>
            <a:srgbClr val="ffffff"/>
          </a:solidFill>
          <a:ln w="64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332d73"/>
                </a:solidFill>
                <a:latin typeface="Gill Sans MT"/>
              </a:rPr>
              <a:t>ENGINEERING DRIVEN</a:t>
            </a: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"/>
          <p:cNvSpPr/>
          <p:nvPr/>
        </p:nvSpPr>
        <p:spPr>
          <a:xfrm rot="20700000">
            <a:off x="2276640" y="3338640"/>
            <a:ext cx="842760" cy="100800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"/>
          <p:cNvSpPr/>
          <p:nvPr/>
        </p:nvSpPr>
        <p:spPr>
          <a:xfrm rot="20700000">
            <a:off x="3219480" y="2911320"/>
            <a:ext cx="842760" cy="100836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"/>
          <p:cNvSpPr/>
          <p:nvPr/>
        </p:nvSpPr>
        <p:spPr>
          <a:xfrm rot="20700000">
            <a:off x="3963960" y="1835280"/>
            <a:ext cx="1728720" cy="1616040"/>
          </a:xfrm>
          <a:prstGeom prst="ellipse">
            <a:avLst/>
          </a:prstGeom>
          <a:noFill/>
          <a:ln w="5076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3267000"/>
            <a:ext cx="1066680" cy="384120"/>
          </a:xfrm>
          <a:prstGeom prst="rect">
            <a:avLst/>
          </a:prstGeom>
          <a:solidFill>
            <a:srgbClr val="f5f2eb"/>
          </a:solidFill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22320" y="2833560"/>
            <a:ext cx="2968920" cy="1887840"/>
            <a:chOff x="1822320" y="2833560"/>
            <a:chExt cx="2968920" cy="1887840"/>
          </a:xfrm>
        </p:grpSpPr>
        <p:sp>
          <p:nvSpPr>
            <p:cNvPr id="268" name=""/>
            <p:cNvSpPr/>
            <p:nvPr/>
          </p:nvSpPr>
          <p:spPr>
            <a:xfrm>
              <a:off x="1889280" y="3649680"/>
              <a:ext cx="1073160" cy="1071720"/>
            </a:xfrm>
            <a:prstGeom prst="ellipse">
              <a:avLst/>
            </a:prstGeom>
            <a:solidFill>
              <a:srgbClr val="d91a5d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03680" y="3267000"/>
              <a:ext cx="1073160" cy="1071720"/>
            </a:xfrm>
            <a:prstGeom prst="ellipse">
              <a:avLst/>
            </a:prstGeom>
            <a:solidFill>
              <a:srgbClr val="ed1b24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39960" y="2833560"/>
              <a:ext cx="1073160" cy="1071720"/>
            </a:xfrm>
            <a:prstGeom prst="ellipse">
              <a:avLst/>
            </a:prstGeom>
            <a:solidFill>
              <a:srgbClr val="f1592a"/>
            </a:solidFill>
            <a:ln w="50760">
              <a:solidFill>
                <a:srgbClr val="f5f2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2320" y="3905280"/>
              <a:ext cx="1219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USE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35280" y="3506760"/>
              <a:ext cx="1219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CONTRIBUTE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73360" y="3098880"/>
              <a:ext cx="1217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ill Sans MT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Gill Sans MT"/>
              </a:endParaRPr>
            </a:p>
            <a:p>
              <a:pPr algn="ctr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Gill Sans MT"/>
                </a:rPr>
                <a:t>CHAMPION</a:t>
              </a:r>
              <a:r>
                <a:rPr b="0" lang="en-US" sz="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111640" y="1371600"/>
            <a:ext cx="2737080" cy="3352680"/>
          </a:xfrm>
          <a:prstGeom prst="ellipse">
            <a:avLst/>
          </a:prstGeom>
          <a:solidFill>
            <a:srgbClr val="332d73"/>
          </a:solidFill>
          <a:ln w="50760">
            <a:solidFill>
              <a:srgbClr val="f5f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"/>
          <p:cNvSpPr/>
          <p:nvPr/>
        </p:nvSpPr>
        <p:spPr>
          <a:xfrm>
            <a:off x="5111640" y="2133720"/>
            <a:ext cx="273708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VALUE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-CREATION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VALUE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ROPRIATION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UPLING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133720"/>
            <a:ext cx="1800" cy="3435120"/>
          </a:xfrm>
          <a:prstGeom prst="line">
            <a:avLst/>
          </a:prstGeom>
          <a:ln w="25560">
            <a:solidFill>
              <a:srgbClr val="332d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380880"/>
            <a:ext cx="82789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Business Agility Drives IT Agi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3487680"/>
            <a:ext cx="7391520" cy="27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Drive for Business Agili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Respond quickly to new regulations, standards and customer opportunitie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Requires IT Agility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Gill Sans MT"/>
                <a:ea typeface="Arial"/>
              </a:rPr>
              <a:t>Drive implementations in a cost-effective manne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9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</a:rPr>
              <a:t>Current IT Solution Not Sufficien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03200" indent="-13968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ill Sans MT"/>
                <a:ea typeface="Arial"/>
              </a:rPr>
              <a:t>A new opportunity for collaborative developmen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81360" y="1751040"/>
            <a:ext cx="3197160" cy="1216080"/>
            <a:chOff x="2781360" y="1751040"/>
            <a:chExt cx="3197160" cy="1216080"/>
          </a:xfrm>
        </p:grpSpPr>
        <p:sp>
          <p:nvSpPr>
            <p:cNvPr id="280" name=""/>
            <p:cNvSpPr/>
            <p:nvPr/>
          </p:nvSpPr>
          <p:spPr>
            <a:xfrm>
              <a:off x="2781360" y="175104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243540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56080" y="1751040"/>
              <a:ext cx="1522440" cy="53172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56080" y="2435400"/>
              <a:ext cx="1522440" cy="531720"/>
            </a:xfrm>
            <a:prstGeom prst="rect">
              <a:avLst/>
            </a:prstGeom>
            <a:solidFill>
              <a:srgbClr val="ed1b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676600" y="1890720"/>
            <a:ext cx="162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OUTSOURCING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"/>
          <p:cNvSpPr/>
          <p:nvPr/>
        </p:nvSpPr>
        <p:spPr>
          <a:xfrm>
            <a:off x="4457880" y="18907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-HOUSE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2589120"/>
            <a:ext cx="1523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COT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"/>
          <p:cNvSpPr/>
          <p:nvPr/>
        </p:nvSpPr>
        <p:spPr>
          <a:xfrm>
            <a:off x="4457880" y="2468520"/>
            <a:ext cx="152388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ill Sans MT"/>
              </a:rPr>
              <a:t>COLLABORATIVE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ill Sans MT"/>
              </a:rPr>
              <a:t>DEVELOPMENT</a:t>
            </a: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058080" y="1643040"/>
            <a:ext cx="328320" cy="1434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347920" y="1643040"/>
            <a:ext cx="328680" cy="1434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357200" y="1751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1" name=""/>
          <p:cNvSpPr/>
          <p:nvPr/>
        </p:nvSpPr>
        <p:spPr>
          <a:xfrm>
            <a:off x="6615000" y="2392200"/>
            <a:ext cx="25146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 New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Opportunity?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3224160"/>
            <a:ext cx="11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2d73"/>
                </a:solidFill>
                <a:latin typeface="Gill Sans MT"/>
              </a:rPr>
              <a:t>Agility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508720" y="1219320"/>
            <a:ext cx="3276360" cy="49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ssets belong to integrator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and service provider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rchitecture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dictated by supplier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Re-use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of standard components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not likely; re-use is to the benefit of the owner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Supplier lock-in / dependency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Application silo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; Integration / Interoperability issues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Potential mismatch functions required  vs functions delivered </a:t>
            </a:r>
            <a:br>
              <a:rPr sz="1400"/>
            </a:b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Gill Sans MT"/>
              </a:rPr>
              <a:t>High costs</a:t>
            </a:r>
            <a:r>
              <a:rPr b="0" lang="en-GB" sz="1400" spc="-1" strike="noStrike">
                <a:solidFill>
                  <a:srgbClr val="000066"/>
                </a:solidFill>
                <a:latin typeface="Gill Sans MT"/>
              </a:rPr>
              <a:t> for development and maintenance for custom apps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  <a:p>
            <a:pPr marL="136440" indent="-1364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136440"/>
                <a:tab algn="l" pos="593640"/>
                <a:tab algn="l" pos="1050840"/>
                <a:tab algn="l" pos="1508040"/>
                <a:tab algn="l" pos="1965240"/>
                <a:tab algn="l" pos="2422440"/>
                <a:tab algn="l" pos="2879640"/>
                <a:tab algn="l" pos="3336840"/>
                <a:tab algn="l" pos="3794040"/>
                <a:tab algn="l" pos="4251240"/>
                <a:tab algn="l" pos="4708440"/>
                <a:tab algn="l" pos="5165640"/>
                <a:tab algn="l" pos="5622840"/>
                <a:tab algn="l" pos="6080040"/>
                <a:tab algn="l" pos="6537240"/>
                <a:tab algn="l" pos="6994440"/>
                <a:tab algn="l" pos="7451640"/>
                <a:tab algn="l" pos="7908840"/>
                <a:tab algn="l" pos="8366040"/>
                <a:tab algn="l" pos="8823240"/>
                <a:tab algn="l" pos="928044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380880"/>
            <a:ext cx="76676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40588b"/>
                </a:solidFill>
                <a:latin typeface="Gill Sans MT"/>
              </a:rPr>
              <a:t>IT Solutions Toda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38080" y="1676520"/>
            <a:ext cx="3426120" cy="1827000"/>
            <a:chOff x="838080" y="1676520"/>
            <a:chExt cx="3426120" cy="1827000"/>
          </a:xfrm>
        </p:grpSpPr>
        <p:sp>
          <p:nvSpPr>
            <p:cNvPr id="296" name=""/>
            <p:cNvSpPr/>
            <p:nvPr/>
          </p:nvSpPr>
          <p:spPr>
            <a:xfrm>
              <a:off x="838080" y="1676520"/>
              <a:ext cx="990720" cy="1827000"/>
            </a:xfrm>
            <a:prstGeom prst="rect">
              <a:avLst/>
            </a:prstGeom>
            <a:solidFill>
              <a:srgbClr val="f159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7400" y="1676520"/>
              <a:ext cx="990720" cy="1827000"/>
            </a:xfrm>
            <a:prstGeom prst="rect">
              <a:avLst/>
            </a:prstGeom>
            <a:solidFill>
              <a:srgbClr val="ee1c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4920" y="1676520"/>
              <a:ext cx="989280" cy="1827000"/>
            </a:xfrm>
            <a:prstGeom prst="rect">
              <a:avLst/>
            </a:prstGeom>
            <a:solidFill>
              <a:srgbClr val="d91a5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85800" y="1079640"/>
            <a:ext cx="396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2d73"/>
                </a:solidFill>
                <a:latin typeface="Gill Sans MT"/>
              </a:rPr>
              <a:t>COMPONENTS AND FRAMEWORK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552680"/>
            <a:ext cx="3786120" cy="1440"/>
          </a:xfrm>
          <a:prstGeom prst="line">
            <a:avLst/>
          </a:prstGeom>
          <a:ln w="190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"/>
          <p:cNvSpPr/>
          <p:nvPr/>
        </p:nvSpPr>
        <p:spPr>
          <a:xfrm>
            <a:off x="852480" y="5199120"/>
            <a:ext cx="88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ill Sans MT"/>
              </a:rPr>
              <a:t>BANK</a:t>
            </a:r>
            <a:r>
              <a:rPr b="0" lang="en-US" sz="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04840" y="1851120"/>
            <a:ext cx="416160" cy="363600"/>
            <a:chOff x="1104840" y="1851120"/>
            <a:chExt cx="416160" cy="363600"/>
          </a:xfrm>
        </p:grpSpPr>
        <p:sp>
          <p:nvSpPr>
            <p:cNvPr id="303" name=""/>
            <p:cNvSpPr/>
            <p:nvPr/>
          </p:nvSpPr>
          <p:spPr>
            <a:xfrm flipV="1">
              <a:off x="1181160" y="191592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104840" y="1851120"/>
              <a:ext cx="416160" cy="363600"/>
              <a:chOff x="1104840" y="1851120"/>
              <a:chExt cx="416160" cy="363600"/>
            </a:xfrm>
          </p:grpSpPr>
          <p:sp>
            <p:nvSpPr>
              <p:cNvPr id="305" name=""/>
              <p:cNvSpPr/>
              <p:nvPr/>
            </p:nvSpPr>
            <p:spPr>
              <a:xfrm>
                <a:off x="1104840" y="1987560"/>
                <a:ext cx="190440" cy="19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22280" y="185112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07960" y="2101680"/>
                <a:ext cx="113040" cy="1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1391760" y="1916280"/>
                <a:ext cx="88920" cy="25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81160" y="2082960"/>
                <a:ext cx="30312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2305080" y="1828800"/>
            <a:ext cx="415800" cy="365040"/>
            <a:chOff x="2305080" y="1828800"/>
            <a:chExt cx="415800" cy="365040"/>
          </a:xfrm>
        </p:grpSpPr>
        <p:sp>
          <p:nvSpPr>
            <p:cNvPr id="311" name=""/>
            <p:cNvSpPr/>
            <p:nvPr/>
          </p:nvSpPr>
          <p:spPr>
            <a:xfrm flipV="1">
              <a:off x="2381400" y="189360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305080" y="1828800"/>
              <a:ext cx="415800" cy="365040"/>
              <a:chOff x="2305080" y="1828800"/>
              <a:chExt cx="415800" cy="365040"/>
            </a:xfrm>
          </p:grpSpPr>
          <p:sp>
            <p:nvSpPr>
              <p:cNvPr id="313" name=""/>
              <p:cNvSpPr/>
              <p:nvPr/>
            </p:nvSpPr>
            <p:spPr>
              <a:xfrm>
                <a:off x="2305080" y="1967040"/>
                <a:ext cx="190440" cy="18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22520" y="182880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08200" y="2079720"/>
                <a:ext cx="11268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2592000" y="18936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81400" y="2060640"/>
                <a:ext cx="30312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524400" y="1847880"/>
            <a:ext cx="417240" cy="365040"/>
            <a:chOff x="3524400" y="1847880"/>
            <a:chExt cx="417240" cy="365040"/>
          </a:xfrm>
        </p:grpSpPr>
        <p:sp>
          <p:nvSpPr>
            <p:cNvPr id="319" name=""/>
            <p:cNvSpPr/>
            <p:nvPr/>
          </p:nvSpPr>
          <p:spPr>
            <a:xfrm flipV="1">
              <a:off x="3600360" y="1912680"/>
              <a:ext cx="22860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524400" y="1847880"/>
              <a:ext cx="417240" cy="365040"/>
              <a:chOff x="3524400" y="1847880"/>
              <a:chExt cx="417240" cy="365040"/>
            </a:xfrm>
          </p:grpSpPr>
          <p:sp>
            <p:nvSpPr>
              <p:cNvPr id="321" name=""/>
              <p:cNvSpPr/>
              <p:nvPr/>
            </p:nvSpPr>
            <p:spPr>
              <a:xfrm>
                <a:off x="3524400" y="1986120"/>
                <a:ext cx="188640" cy="18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41840" y="1847880"/>
                <a:ext cx="162000" cy="16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27520" y="209880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3811320" y="191268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00360" y="2079720"/>
                <a:ext cx="303480" cy="75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103320" y="3933720"/>
            <a:ext cx="728640" cy="782640"/>
          </a:xfrm>
          <a:prstGeom prst="ellipse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"/>
          <p:cNvSpPr/>
          <p:nvPr/>
        </p:nvSpPr>
        <p:spPr>
          <a:xfrm>
            <a:off x="-65160" y="41511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"/>
          <p:cNvSpPr/>
          <p:nvPr/>
        </p:nvSpPr>
        <p:spPr>
          <a:xfrm>
            <a:off x="638280" y="2708280"/>
            <a:ext cx="3786120" cy="541440"/>
          </a:xfrm>
          <a:prstGeom prst="rect">
            <a:avLst/>
          </a:prstGeom>
          <a:solidFill>
            <a:srgbClr val="ffffff"/>
          </a:solidFill>
          <a:ln w="6480">
            <a:solidFill>
              <a:srgbClr val="332d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"/>
          <p:cNvSpPr/>
          <p:nvPr/>
        </p:nvSpPr>
        <p:spPr>
          <a:xfrm>
            <a:off x="638280" y="2752920"/>
            <a:ext cx="378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332d73"/>
                </a:solidFill>
                <a:latin typeface="Gill Sans MT"/>
              </a:rPr>
              <a:t>INTEGRATORS &amp; SERVICE PROVIDERS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"/>
          <p:cNvSpPr/>
          <p:nvPr/>
        </p:nvSpPr>
        <p:spPr>
          <a:xfrm>
            <a:off x="901800" y="3816360"/>
            <a:ext cx="468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1" name=""/>
          <p:cNvSpPr/>
          <p:nvPr/>
        </p:nvSpPr>
        <p:spPr>
          <a:xfrm>
            <a:off x="941400" y="3932280"/>
            <a:ext cx="728640" cy="782640"/>
          </a:xfrm>
          <a:prstGeom prst="ellipse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"/>
          <p:cNvSpPr/>
          <p:nvPr/>
        </p:nvSpPr>
        <p:spPr>
          <a:xfrm>
            <a:off x="773280" y="414972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789360"/>
            <a:ext cx="504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"/>
          <p:cNvSpPr/>
          <p:nvPr/>
        </p:nvSpPr>
        <p:spPr>
          <a:xfrm>
            <a:off x="1755720" y="3905280"/>
            <a:ext cx="728640" cy="782640"/>
          </a:xfrm>
          <a:prstGeom prst="ellipse">
            <a:avLst/>
          </a:prstGeom>
          <a:solidFill>
            <a:srgbClr val="d91a5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"/>
          <p:cNvSpPr/>
          <p:nvPr/>
        </p:nvSpPr>
        <p:spPr>
          <a:xfrm>
            <a:off x="1652760" y="412272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"/>
          <p:cNvSpPr/>
          <p:nvPr/>
        </p:nvSpPr>
        <p:spPr>
          <a:xfrm>
            <a:off x="2798640" y="3897360"/>
            <a:ext cx="728640" cy="782640"/>
          </a:xfrm>
          <a:prstGeom prst="ellipse">
            <a:avLst/>
          </a:prstGeom>
          <a:solidFill>
            <a:srgbClr val="f159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"/>
          <p:cNvSpPr/>
          <p:nvPr/>
        </p:nvSpPr>
        <p:spPr>
          <a:xfrm>
            <a:off x="2630520" y="4114800"/>
            <a:ext cx="1009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8" name=""/>
          <p:cNvSpPr/>
          <p:nvPr/>
        </p:nvSpPr>
        <p:spPr>
          <a:xfrm>
            <a:off x="3597120" y="3780000"/>
            <a:ext cx="504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9" name=""/>
          <p:cNvSpPr/>
          <p:nvPr/>
        </p:nvSpPr>
        <p:spPr>
          <a:xfrm>
            <a:off x="3637080" y="3895560"/>
            <a:ext cx="728640" cy="782640"/>
          </a:xfrm>
          <a:prstGeom prst="ellipse">
            <a:avLst/>
          </a:prstGeom>
          <a:solidFill>
            <a:srgbClr val="ee1c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0" name=""/>
          <p:cNvSpPr/>
          <p:nvPr/>
        </p:nvSpPr>
        <p:spPr>
          <a:xfrm>
            <a:off x="3468600" y="41133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"/>
          <p:cNvSpPr/>
          <p:nvPr/>
        </p:nvSpPr>
        <p:spPr>
          <a:xfrm>
            <a:off x="4394160" y="3753000"/>
            <a:ext cx="4680" cy="981000"/>
          </a:xfrm>
          <a:prstGeom prst="line">
            <a:avLst/>
          </a:prstGeom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"/>
          <p:cNvSpPr/>
          <p:nvPr/>
        </p:nvSpPr>
        <p:spPr>
          <a:xfrm>
            <a:off x="4451400" y="3868560"/>
            <a:ext cx="728640" cy="782640"/>
          </a:xfrm>
          <a:prstGeom prst="ellipse">
            <a:avLst/>
          </a:prstGeom>
          <a:solidFill>
            <a:srgbClr val="d91a5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"/>
          <p:cNvSpPr/>
          <p:nvPr/>
        </p:nvSpPr>
        <p:spPr>
          <a:xfrm>
            <a:off x="4282920" y="408636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APP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"/>
          <p:cNvSpPr/>
          <p:nvPr/>
        </p:nvSpPr>
        <p:spPr>
          <a:xfrm>
            <a:off x="638280" y="514656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1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"/>
          <p:cNvSpPr/>
          <p:nvPr/>
        </p:nvSpPr>
        <p:spPr>
          <a:xfrm>
            <a:off x="3249720" y="5135400"/>
            <a:ext cx="1218960" cy="525600"/>
          </a:xfrm>
          <a:prstGeom prst="rect">
            <a:avLst/>
          </a:prstGeom>
          <a:solidFill>
            <a:srgbClr val="332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nterprise 2</a:t>
            </a:r>
            <a:endParaRPr b="0" lang="en-US" sz="1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258920" y="2198520"/>
            <a:ext cx="415800" cy="363600"/>
            <a:chOff x="1258920" y="2198520"/>
            <a:chExt cx="415800" cy="363600"/>
          </a:xfrm>
        </p:grpSpPr>
        <p:sp>
          <p:nvSpPr>
            <p:cNvPr id="347" name=""/>
            <p:cNvSpPr/>
            <p:nvPr/>
          </p:nvSpPr>
          <p:spPr>
            <a:xfrm flipV="1">
              <a:off x="1335240" y="226368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258920" y="2198520"/>
              <a:ext cx="415800" cy="363600"/>
              <a:chOff x="1258920" y="2198520"/>
              <a:chExt cx="415800" cy="363600"/>
            </a:xfrm>
          </p:grpSpPr>
          <p:sp>
            <p:nvSpPr>
              <p:cNvPr id="349" name=""/>
              <p:cNvSpPr/>
              <p:nvPr/>
            </p:nvSpPr>
            <p:spPr>
              <a:xfrm>
                <a:off x="1258920" y="2336760"/>
                <a:ext cx="1904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76360" y="219852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562040" y="244944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1545840" y="226332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5240" y="2430360"/>
                <a:ext cx="30312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2104920" y="2217600"/>
            <a:ext cx="416160" cy="363600"/>
            <a:chOff x="2104920" y="2217600"/>
            <a:chExt cx="416160" cy="363600"/>
          </a:xfrm>
        </p:grpSpPr>
        <p:sp>
          <p:nvSpPr>
            <p:cNvPr id="355" name=""/>
            <p:cNvSpPr/>
            <p:nvPr/>
          </p:nvSpPr>
          <p:spPr>
            <a:xfrm flipV="1">
              <a:off x="2181240" y="228276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2104920" y="2217600"/>
              <a:ext cx="416160" cy="363600"/>
              <a:chOff x="2104920" y="2217600"/>
              <a:chExt cx="416160" cy="36360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4920" y="2355840"/>
                <a:ext cx="1904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22360" y="221760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08400" y="2468520"/>
                <a:ext cx="11268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391840" y="22824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81240" y="2449440"/>
                <a:ext cx="30312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3733920" y="2217600"/>
            <a:ext cx="417240" cy="363600"/>
            <a:chOff x="3733920" y="2217600"/>
            <a:chExt cx="417240" cy="363600"/>
          </a:xfrm>
        </p:grpSpPr>
        <p:sp>
          <p:nvSpPr>
            <p:cNvPr id="363" name=""/>
            <p:cNvSpPr/>
            <p:nvPr/>
          </p:nvSpPr>
          <p:spPr>
            <a:xfrm flipV="1">
              <a:off x="3809880" y="2282760"/>
              <a:ext cx="2286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733920" y="2217600"/>
              <a:ext cx="417240" cy="363600"/>
              <a:chOff x="3733920" y="2217600"/>
              <a:chExt cx="417240" cy="363600"/>
            </a:xfrm>
          </p:grpSpPr>
          <p:sp>
            <p:nvSpPr>
              <p:cNvPr id="365" name=""/>
              <p:cNvSpPr/>
              <p:nvPr/>
            </p:nvSpPr>
            <p:spPr>
              <a:xfrm>
                <a:off x="3733920" y="2355840"/>
                <a:ext cx="188640" cy="18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51360" y="2217600"/>
                <a:ext cx="162000" cy="16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7040" y="2468520"/>
                <a:ext cx="114120" cy="112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020840" y="2282400"/>
                <a:ext cx="88920" cy="258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9880" y="2449440"/>
                <a:ext cx="303480" cy="76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0:04:19Z</dcterms:created>
  <dc:creator>Marcel Weber</dc:creator>
  <dc:description/>
  <dc:language>en-US</dc:language>
  <cp:lastModifiedBy>ians</cp:lastModifiedBy>
  <cp:lastPrinted>2008-08-24T20:31:16Z</cp:lastPrinted>
  <dcterms:modified xsi:type="dcterms:W3CDTF">2010-07-21T18:59:56Z</dcterms:modified>
  <cp:revision>372</cp:revision>
  <dc:subject>IMG Frmenpräsentaion</dc:subject>
  <dc:title>Score. Unternehmenspräsentation</dc:title>
</cp:coreProperties>
</file>