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3908B-7006-450F-9662-DAB48F1D84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Bonjour Ange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Voilou, je vais ajouter des commentaires dans quelques pages pour faire des corrections, suggest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e crois qu’il faudrait d’abord ajouter, ne serait-ce que deux lignes présentatnt c’est quoi la génération d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1F8-7A1E-40B0-B96F-A18BF8A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7720" y="408744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D10-A2D4-4007-BC8A-B83B703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60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2BF-AD7B-4B75-A5D9-D3B10721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476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772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476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104-C3AC-438E-8A16-DDEEED2E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5A74-DBBB-484F-B0CB-9179FD58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915920"/>
            <a:ext cx="7680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B66A-412B-48F4-B104-5E92760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0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42DE-C395-4B8B-9D77-2B557D6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A2C-4824-48A8-9D2C-96921E28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9BD-EDA9-4070-8184-75090AE0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67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FFC-D8D2-4885-A7BF-AE7EDD80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9179-C18B-49FA-A5CB-8490487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7720" y="1915920"/>
            <a:ext cx="7680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665-907A-4DC7-A017-2E099C96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360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60C7-EB0F-42EF-99A5-81BE061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79F-412C-4310-9F1A-5C15F49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08744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3A1E-8270-407A-9434-3EE9A35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360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31D-DFB0-49DF-9699-4FEBDB15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476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1440" y="191592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476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1440" y="4087440"/>
            <a:ext cx="247284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C79-AB5D-4855-A1C5-B3E93908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0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71C-97EC-4DB8-878A-9BA6655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EF9-3029-4E8C-A9E6-BC426EE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813-438A-4333-B242-0EA10BDB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3040" y="750960"/>
            <a:ext cx="7767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A5E-B232-4D11-8602-AE08380E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E45-7318-4640-BF30-B79BB12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600" y="408744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859-0DBB-4272-9F88-445F2B8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600" y="1915920"/>
            <a:ext cx="374796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4087440"/>
            <a:ext cx="768060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A90-4685-4864-AD89-493E3E6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gradFill rotWithShape="0">
            <a:gsLst>
              <a:gs pos="0">
                <a:srgbClr val="e5e7eb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2743200" cy="116676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3040" y="750960"/>
            <a:ext cx="77677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915920"/>
            <a:ext cx="7680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58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58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17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91320" y="6248160"/>
            <a:ext cx="2884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Ak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240" y="6240240"/>
            <a:ext cx="574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A87B6-7E83-42C9-AED4-A2EDC649D886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765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gradFill rotWithShape="0">
              <a:gsLst>
                <a:gs pos="0">
                  <a:srgbClr val="e5e7eb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17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791320" y="6248160"/>
            <a:ext cx="2884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6320" y="6244920"/>
            <a:ext cx="5745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159AA9-6BD9-4FCF-95BD-54C19D7EE76B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59720" cy="13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86280" cy="123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6084720" cy="124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58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58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dev.w3.org/2006/webapi/selectors-api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K-UI – Toolkit for User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  <a:ea typeface="MS Gothic"/>
              </a:rPr>
              <a:t>CSS Engin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3040" y="795240"/>
            <a:ext cx="7774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Core - C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67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71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K-UI implement CSS W3C interfaces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ViewCSSImpl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wich implement W3C ViewCSS and manage the computing of sty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DocumentCSSImpl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which implement W3C DocumentCSS and store StyleSheet pars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SSPropertiesImpl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which implement W3C CSS2Properties to manage CSS2 inline style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SS2Properties style = ...; style.setColor('red'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SSValueImpl,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- Sel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lectors are used to define widgets which must be styl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lector are configurable. TK-UI provide by default 2 kind of selector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T Selecto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us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lass name widge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or selector. Ex : Text {...} to apply styles to SWT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TML Selector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 us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TML nam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or selector. Ex : input {...} to apply styles to SWT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HTML select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 can download CSS stylesheet into the Web (ex : Zen CSS) and apply it directly to your SWT U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TML/SWT Sel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WT Selector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-color:green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lnSpc>
                <a:spcPct val="66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66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ML Sel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[type='text']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ground-color:green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66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62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66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66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D sel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 selector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uses widget'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etData/setDat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key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"id"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el#My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 label =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tData("id", "MyId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lass sel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lass selector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uses widget'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etData/setDat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key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"class"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Col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 label = 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tData("class", "redClass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cendant sele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Descendant selector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select SWT Label which is added to a SWT Composite which is added to a SWT Compos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ite Composite Lab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el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gre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ttribute selectors/style attribu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tyle attribut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low to distinguish the CSS style of SWT Button with style=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T.CHECK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checkbox) with SWT Button with style=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T.RADIO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radio)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5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yle='SWT.CHECK'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yle='SWT.RADIO'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gre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520" indent="-3265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d solution. It will be better to write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5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style~='SWT.RADIO'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gre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ttribute selectors/getter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348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etter typ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allow to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retrieve with introspection the value of a SWT widget gette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instance SWT Text ha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etEditabl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method which return true if the widget is editable. It's possible to write style like thi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editable=true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ttribute selectors/custom ty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ustom  typ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manage attributes values with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etDat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method of SWT widge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instance, if you define setData like th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text = ..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tData("foo", "warning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 can write CSS style like thi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[foo="warning"]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seudo-clas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seudo-classes supported :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:focu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:ho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foc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red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ho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r:green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4586"/>
                </a:solidFill>
                <a:latin typeface="Arial"/>
              </a:rPr>
              <a:t>Can implement your own pseudo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Go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852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ry to improve Matt work http://www.eclipsecon.org/2007/index.php?page=sub/&amp;id=36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vid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ustomizabl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CSS Engine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Apply styles to any object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SWT widgets, Swing Container, XM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Extends the existing selector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haviour (ex : Text#MyId {...}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Manage your own selecto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Extend the existing CSS Proper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haviour (ex:  color:red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Add your own CSS proper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Manage cach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or the resources (Color, Font, Image...) used for the sty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Manage path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for the resources (Image..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hoose the SAC parse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o u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line Style (1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348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tyle attribut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uses widget'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etData/setData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key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"style"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text =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tData("style", "color:red;cursor:help;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line Style (2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348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org.w3c.dom.css.CSS2Properti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t CSS2Properties instance which define the whole of CSS2 properties and therefore define style to use (like Javascript )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text =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SStylableElement stylableElement = (CSSStylableElement) engine.getElement(text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S2Properties style = stylableElement.getStyle(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yle.setColor("re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yle.setBackgroundColor("yellow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3400" y="794880"/>
            <a:ext cx="77709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line style (3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348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2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arseAndApplyStyleDeclaration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engine method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6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text =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gine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seAndApplyStyleDeclaration(text, "color:red;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Applying style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85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trategies to apply style to widget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Explicit strategy (Loop for widgets)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Apply style by putting root widgets (ex : SWT Shell) and loop for children widget to apply style for each widg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p : works with any Object (Swing ,SWT...)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ns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ust call applyStyles method at end of UI construc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ust iterate on each widgets paren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Lazy strateg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Apply style as soon as Widget is added to Compo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p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pplyStyles method must not be call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idget root must not iterate to apply styles to widget childre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ns : works good with Swing but doesn't work good with SWT (see next Slid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Lazy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wing works very go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Swing Toolkit to detect that Container is Add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kit tk = Toolkit.getDefaultToolkit(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k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AWTEventListener(listener, AWTEvent.CONTAINER_EVENT_MAS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2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0">
              <a:lnSpc>
                <a:spcPct val="66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520" indent="-3265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SWT doesn't work very go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T doesn't provide Event when Widget is added to Compo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K-UI simulate the Event widgetAdded with SWT.Show and SWT.Resize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Core – SWT, Swing,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WT, Swing, XML CSS engine implementation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tends AbstractCSSEngine (implement CSSEngine interface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SWT CSS Engine implementation, each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WT widget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rapped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WT Elemen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W3C) implem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ach CSS implementation must manage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applying style strategi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xplicit strategie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Apply style after all SWT widgets are added  into Shell by looping for each widgets and apply style to widge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Lazy strategie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: Apply style as soon as a widget is added to the composi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pply style to the widget for each CSS property registered with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ICSSPropertyHandler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color, font..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3040" y="795240"/>
            <a:ext cx="7774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Core - CSSEng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86720" cy="46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71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re provid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SSEngin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interface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parseStyleSheet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: parse style sheet with SAC parser, build W3C CSSStyleSheet and store it to DocumentCS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applyStyles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(*) : apply styles to any object (SWT Widget, Swing Container, XML...)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parseStyleDeclaration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(*) : load a style declaration CSSStyleDeclaration 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applyStyleDeclaration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(*) : apply style declarations on widgets (Swing, SWT...)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parsePropertyValue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(*) : parse a String value CSSValue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applyCSSProperty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(*) : apply a CSS property on a widget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retrieveCSSProperty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(*) : retrieve a CSS property from a widget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reset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: reset the loaded stylesheet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dispose</a:t>
            </a:r>
            <a:r>
              <a:rPr b="0" lang="en-GB" sz="2100" spc="-1" strike="noStrike">
                <a:solidFill>
                  <a:srgbClr val="003366"/>
                </a:solidFill>
                <a:latin typeface="Arial"/>
              </a:rPr>
              <a:t> : dispose the used resources (Color, Font...). This method also calls reset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Core - AbstractCSSEng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4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re provid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AbstractCSSEngine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ich manage logic of CSS engine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se style shee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ore style shee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pute CSS style declaration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AbstractCSSEngin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orks with  org.w3c.dom.Element to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t children of widget (to apply styles by looping for children widget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pute style with org.w3c.dom.css.ViewCSS#getComputedStyle(Element,String)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t name of widget into CSS selector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3400" y="796680"/>
            <a:ext cx="7780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- CSSStylableEl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e exactly, CSS Engine works with CSSStylableElement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xtends org.w3c.dom.E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efine method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ublic String getCSSId() : return the id of the widget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sed to write Text#MyId {color:red;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WT Element implementation use Data methods to store the id : text.seData('id','MyId')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7f0055"/>
                </a:solidFill>
                <a:latin typeface="Courier New"/>
                <a:ea typeface="Courier New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 getCSSClass()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return the CSS class of the wid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sed to write .redClass {color:red;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WT Element implementation use Data methods to store class : text.setData(class'', 'redClass'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3400" y="796680"/>
            <a:ext cx="7780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IElementProvi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n CSS engine must apply style to an object (eg : SWT widget), it search CSStylableElement implementation linked by using IElementProvi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ElementProvider is interface with metho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89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public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getElement(Object element, CSSEngine engine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 for SWT SWTElementProviderImpl return SWTEl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ElementProvider allow to return customize CSSSTylableElement. So you can manage id, class, style information as you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Go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an apply styles at runtim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pute default sty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pply default styles before apply new sty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seudo classes :focus, :hover are suppor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ful to manage CSS edi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vide tools to generate CSS stylesheet from an existing UI (SWT Shell...) with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SSSerialize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K-UI sample provide SWT CSS Editor which show the CSS Engine capability  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3040" y="794880"/>
            <a:ext cx="77691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- Improv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2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age another CSS properties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Margin, floa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..:  manage layout (Swt or Swing). Use Miglayou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Borde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manage border correctly, manage round border (CSS3 property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mplement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3C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query selecto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trieve widget by matching against a group of selecto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e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ev.w3.org/2006/webapi/selectors-api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58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manage CSS Editor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58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ore rule about CSS properties available for a widget. =&gt; can manage completion into CSS editor on CSS proper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– Target (1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cribe UI with XML Markup (XHTML, XUL...) and render it into SWT or Sw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age UI with DOM Document (like javascript document into Web Browser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w3c createElementNS, appenChild, removeChild to add/remove UI widg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w3c addEventListener to add blur, focus... eve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age logic with Javascript or backing bea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3400" y="796680"/>
            <a:ext cx="7780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– Target (2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9320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atabinding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JFace Databind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rnally : Bind UI with DOM Nodes (element, attribute...) of docu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BEL (Databinding Expression language)  : Bind UI with Scriptable objects, XML, JavaBeans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&lt;input value='{Binding ElementId=textbox1 Path=value}' /&gt;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nd Scriptable objects (javascript), Java Bean, XML... with UI widge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tensible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 your own XML Marku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 your own render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3400" y="796680"/>
            <a:ext cx="7780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 - Target (3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932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SS Engine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SS style into XML Markup description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yles inlines : &lt;input style='color;red;' /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lobal styles : &lt;styles&gt; input{color:red;}&lt;styles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avascript : Element input  = ...; input.style.color='red'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SS style with pur SWT, Swing,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SSEngine engine = ...; engine.applyStyles(...)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grate TK-UI into Akrogen which is Eclipse plugin to generate code with wizard that you describe with XUL, javascript. Wizard is linked to Template (Freemarker, ....) or Ant Tas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795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SS Editor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528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6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43160" y="1879560"/>
            <a:ext cx="7116480" cy="4600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82880" y="3192480"/>
            <a:ext cx="2070360" cy="539640"/>
          </a:xfrm>
          <a:prstGeom prst="borderCallout1">
            <a:avLst>
              <a:gd name="adj1" fmla="val 18750"/>
              <a:gd name="adj2" fmla="val -8333"/>
              <a:gd name="adj3" fmla="val -57226"/>
              <a:gd name="adj4" fmla="val 22120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1) Type CSS sty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38280" y="4302000"/>
            <a:ext cx="2070000" cy="540000"/>
          </a:xfrm>
          <a:prstGeom prst="borderCallout1">
            <a:avLst>
              <a:gd name="adj1" fmla="val 18750"/>
              <a:gd name="adj2" fmla="val -8333"/>
              <a:gd name="adj3" fmla="val -363888"/>
              <a:gd name="adj4" fmla="val 2086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2) Style is applyed at run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9640" y="4859280"/>
            <a:ext cx="2070000" cy="539640"/>
          </a:xfrm>
          <a:prstGeom prst="borderCallout1">
            <a:avLst>
              <a:gd name="adj1" fmla="val 18750"/>
              <a:gd name="adj2" fmla="val -8333"/>
              <a:gd name="adj3" fmla="val -225712"/>
              <a:gd name="adj4" fmla="val 41754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3) Change to HTML select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440000"/>
            <a:ext cx="2970360" cy="539640"/>
          </a:xfrm>
          <a:prstGeom prst="borderCallout1">
            <a:avLst>
              <a:gd name="adj1" fmla="val 18750"/>
              <a:gd name="adj2" fmla="val -8333"/>
              <a:gd name="adj3" fmla="val 134310"/>
              <a:gd name="adj4" fmla="val -119574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(4) File/New : generate default style with CSSSerializ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3040" y="794880"/>
            <a:ext cx="77756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- Mod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76885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K-UI provide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SS Engine Cor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age logic of all CSS Engine (CSSEngine interface) 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7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arse style shee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76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pply styles to any Object (SWT widgets, Swing container, XML Element..)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brary 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org.akrogen.tkui.css.core*.j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T CSS Engin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ased on CSS Engine C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Apply styles to SWT widget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brary 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org.akrogen.tkui.css.swt*.j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2520" indent="-27000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wing CSS Engin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ased on CSS Engine Co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Apply styles to Swing component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76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brary :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org.akrogen.tkui.css.swing*.j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3400" y="796680"/>
            <a:ext cx="77803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-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93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WT - Sample (Explicit Strategy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//</a:t>
            </a:r>
            <a:r>
              <a:rPr b="1" lang="en-GB" sz="1000" spc="-1" strike="noStrike">
                <a:solidFill>
                  <a:srgbClr val="003366"/>
                </a:solidFill>
                <a:latin typeface="Courier New"/>
                <a:ea typeface="Courier New"/>
              </a:rPr>
              <a:t> </a:t>
            </a:r>
            <a:r>
              <a:rPr b="0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1. </a:t>
            </a:r>
            <a:r>
              <a:rPr b="1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Create SWT CSS Engin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SSEngine engine = </a:t>
            </a: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new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CSSSWTEngineImpl(display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// 2. Parse style shee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ngine.parseStyleSheet(</a:t>
            </a: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new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Reader(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2a00ff"/>
                </a:solidFill>
                <a:latin typeface="Courier New"/>
                <a:ea typeface="Courier New"/>
              </a:rPr>
              <a:t>"Label {color:red;} Text {background-color:green;}"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f7f5f"/>
                </a:solidFill>
                <a:latin typeface="Courier New"/>
                <a:ea typeface="Courier New"/>
              </a:rPr>
              <a:t>// Labe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label1 = </a:t>
            </a: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new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Label(panel1, SWT.</a:t>
            </a:r>
            <a:r>
              <a:rPr b="0" i="1" lang="en-GB" sz="1000" spc="-1" strike="noStrike">
                <a:solidFill>
                  <a:srgbClr val="0000c0"/>
                </a:solidFill>
                <a:latin typeface="Courier New"/>
                <a:ea typeface="Courier New"/>
              </a:rPr>
              <a:t>NONE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.setText(</a:t>
            </a:r>
            <a:r>
              <a:rPr b="0" lang="en-GB" sz="1000" spc="-1" strike="noStrike">
                <a:solidFill>
                  <a:srgbClr val="2a00ff"/>
                </a:solidFill>
                <a:latin typeface="Courier New"/>
                <a:ea typeface="Courier New"/>
              </a:rPr>
              <a:t>"Label 0"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3f7f5f"/>
                </a:solidFill>
                <a:latin typeface="Courier New"/>
                <a:ea typeface="Courier New"/>
              </a:rPr>
              <a:t>// Tex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ext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1 = </a:t>
            </a: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new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ext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(panel1, SWT.</a:t>
            </a:r>
            <a:r>
              <a:rPr b="0" i="1" lang="en-GB" sz="1000" spc="-1" strike="noStrike">
                <a:solidFill>
                  <a:srgbClr val="0000c0"/>
                </a:solidFill>
                <a:latin typeface="Courier New"/>
                <a:ea typeface="Courier New"/>
              </a:rPr>
              <a:t>NONE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1.setText(</a:t>
            </a:r>
            <a:r>
              <a:rPr b="0" lang="en-GB" sz="1000" spc="-1" strike="noStrike">
                <a:solidFill>
                  <a:srgbClr val="2a00ff"/>
                </a:solidFill>
                <a:latin typeface="Courier New"/>
                <a:ea typeface="Courier New"/>
              </a:rPr>
              <a:t>"bla bla bla..."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// 3. Apply Styles (Loop for shell children widgets)</a:t>
            </a:r>
            <a:r>
              <a:rPr b="1" lang="en-GB" sz="1000" spc="-1" strike="noStrike">
                <a:solidFill>
                  <a:srgbClr val="ff420e"/>
                </a:solidFill>
                <a:latin typeface="Courier New"/>
                <a:ea typeface="Courier New"/>
              </a:rPr>
              <a:t>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ngine.applyStyles(shell, </a:t>
            </a:r>
            <a:r>
              <a:rPr b="1" lang="en-GB" sz="1000" spc="-1" strike="noStrike">
                <a:solidFill>
                  <a:srgbClr val="7f0055"/>
                </a:solidFill>
                <a:latin typeface="Courier New"/>
                <a:ea typeface="Courier New"/>
              </a:rPr>
              <a:t>true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40360" y="2700360"/>
            <a:ext cx="216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040" y="794880"/>
            <a:ext cx="77756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3C - S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8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AC Parser interface (W3C)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3C provide specification to parse StyleSheet with SAC Parser. See at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ttp://www.w3.org/TR/SAC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3C provides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ac.ja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which contains SAC  interf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AC Parser implementati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l parsers implement (only)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SS2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pécific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e at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ttp://www.w3.org/Style/CSS/SAC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Flute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This implementation is using JavaC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Batik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Smaller and faster than flute (to check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teadySt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3040" y="794880"/>
            <a:ext cx="777564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K-UI CSS Engine – Core - S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16280"/>
            <a:ext cx="7688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K-UI CSS Engine co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SAC Parser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w3c interface) to parse style she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an us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any SAC parser implementation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AC Parser implementation is chosen with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ISACParserFactor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y default CSS Engine us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Flute customiz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lute customiz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K-UI customize flute to manage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SS3 namespac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y have chosen flute? Because Flute is based on JavaCC and it's easy to customize gramm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040" y="795240"/>
            <a:ext cx="7774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3C - C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15920"/>
            <a:ext cx="76867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71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3C provide specification about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SS, CSS2, CSS3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71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3C provide CSS interface for Level 2 Document Object Model Style. The definitions are divided in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tyleSheet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StyleSheet, StyleSheetList, DocumentStyle...interfa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0080" indent="-272880">
              <a:lnSpc>
                <a:spcPct val="7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CS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CSSStyleSheet, CSSRuleList, CSSValue, ViewCSS, CSStyleDeclaration..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0120" indent="-330120">
              <a:lnSpc>
                <a:spcPct val="71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e at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ttp://www.w3.org/TR/2000/REC-DOM-Level-2-Style-20001113/java-bi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Akrogen In Action</dc:title>
</cp:coreProperties>
</file>